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E5E-F599-4CAE-BCFF-B0AF7D17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ultiple scales involved in the th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ale – develop extrudable materials with high strength-to-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materials (foams, honeycombs, microtru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s – embedded as fibers for structural health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cale – develop digital materials that can be programmed to self-assemble and disassemble for re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scale – Employ materials in efficient structures that are light, strong at critic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wich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and web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 all materials and structures wrt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process of material storage, delivery, curing, and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goal is more efficient structures, built with effici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add an expert in fiber-reinforced concrete from Michigan or Northwestern 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selection and development of suitable materials for 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fluid for delivery, yet resist flow to prevent slumping and to support subsequently deposited lay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requisite rheological characteristics, gelation times, curing kinetics, and shrinkag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low-cost for CC to be economically feasib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 affords flexibility because of layered construction intrinsic to pro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lan to exploit this unusual flexibility to design and build structural elements with extruded materials reinforced with various stiffe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On macro level, design lightweight structures that are mechanically effic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wich structures for high stiffness (light core between strong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 structural designs for mechanical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ENERGY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– integrate new materials with delivery and storage systems for rapid automate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ust be processed by extrusion and/or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2666880"/>
            <a:ext cx="7696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RA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 for Rapid Automated Fabrica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erials to Structur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43000" y="1905120"/>
            <a:ext cx="7620120" cy="3809880"/>
            <a:chOff x="1143000" y="1905120"/>
            <a:chExt cx="7620120" cy="3809880"/>
          </a:xfrm>
        </p:grpSpPr>
        <p:sp>
          <p:nvSpPr>
            <p:cNvPr id="494" name=""/>
            <p:cNvSpPr/>
            <p:nvPr/>
          </p:nvSpPr>
          <p:spPr>
            <a:xfrm>
              <a:off x="1143000" y="4724640"/>
              <a:ext cx="312444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cess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9000" y="3276720"/>
              <a:ext cx="312444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fficient Stru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39040" y="190512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ructural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92520" y="3048120"/>
              <a:ext cx="469800" cy="1447920"/>
            </a:xfrm>
            <a:custGeom>
              <a:avLst/>
              <a:gdLst/>
              <a:ahLst/>
              <a:rect l="l" t="t" r="r" b="b"/>
              <a:pathLst>
                <a:path w="296" h="912">
                  <a:moveTo>
                    <a:pt x="296" y="0"/>
                  </a:moveTo>
                  <a:cubicBezTo>
                    <a:pt x="156" y="116"/>
                    <a:pt x="16" y="232"/>
                    <a:pt x="8" y="384"/>
                  </a:cubicBezTo>
                  <a:cubicBezTo>
                    <a:pt x="0" y="536"/>
                    <a:pt x="208" y="824"/>
                    <a:pt x="248" y="91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467120" y="3048120"/>
              <a:ext cx="469800" cy="1447920"/>
            </a:xfrm>
            <a:custGeom>
              <a:avLst/>
              <a:gdLst/>
              <a:ahLst/>
              <a:rect l="l" t="t" r="r" b="b"/>
              <a:pathLst>
                <a:path w="296" h="912">
                  <a:moveTo>
                    <a:pt x="296" y="0"/>
                  </a:moveTo>
                  <a:cubicBezTo>
                    <a:pt x="156" y="116"/>
                    <a:pt x="16" y="232"/>
                    <a:pt x="8" y="384"/>
                  </a:cubicBezTo>
                  <a:cubicBezTo>
                    <a:pt x="0" y="536"/>
                    <a:pt x="208" y="824"/>
                    <a:pt x="248" y="91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6040" y="525780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0" y="243864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9720" y="266724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257080" y="266724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5257080" y="441972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43400" y="441972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56" y="48"/>
                    <a:pt x="112" y="96"/>
                    <a:pt x="144" y="144"/>
                  </a:cubicBezTo>
                  <a:cubicBezTo>
                    <a:pt x="176" y="192"/>
                    <a:pt x="184" y="264"/>
                    <a:pt x="192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3000" y="1905120"/>
              <a:ext cx="312444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teri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9040" y="4724640"/>
              <a:ext cx="312408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ptim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219320" y="1676520"/>
          <a:ext cx="7696080" cy="4548240"/>
        </p:xfrm>
        <a:graphic>
          <a:graphicData uri="http://schemas.openxmlformats.org/drawingml/2006/table">
            <a:tbl>
              <a:tblPr/>
              <a:tblGrid>
                <a:gridCol w="2205000"/>
                <a:gridCol w="3911400"/>
                <a:gridCol w="157968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Steve Nu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aterials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ke Kass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Julian Domarad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Henryk Flash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erospace and 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Yan Xi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ivil and Environ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Behrokh Khoshnev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Industrial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George Be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Peter W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Neil Gershenf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edia Arts and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Larry S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obotics fab, modular components &amp; assemb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research and develop various mono and distributed robots, tools, software and their integration into systems for assembling modules in situ to form functional attributes of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ots’ locations, movements and working areas are dynamically changing along with environment. Develop a mathematical / geometric model of environment and a robot coordination protoc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the fundamental research in the modules to  be placed internal to the extruded material that transform an extrusion into a functional wall or roof of a mega-scale structure. The modules that make a post-modern interactive structure includ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reinforcing, plumbing, and electricity condu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d communication, interactive sensing and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 the Modules and Assembly Thrust with Extruded Materials  and Softwa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69608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es and Assembl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914400" y="1828800"/>
            <a:ext cx="8229600" cy="4419720"/>
            <a:chOff x="914400" y="1828800"/>
            <a:chExt cx="8229600" cy="4419720"/>
          </a:xfrm>
        </p:grpSpPr>
        <p:sp>
          <p:nvSpPr>
            <p:cNvPr id="513" name=""/>
            <p:cNvSpPr/>
            <p:nvPr/>
          </p:nvSpPr>
          <p:spPr>
            <a:xfrm>
              <a:off x="4495680" y="1981440"/>
              <a:ext cx="320040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 of 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quiring bonding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infor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7920" y="5105520"/>
              <a:ext cx="320040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botic Assembl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ngle ro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ultiple robo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86400" y="510552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st &amp; eval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9920" y="3429000"/>
              <a:ext cx="3124080" cy="1143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 of 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quiring seal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ectrical, plumb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4400" y="1828800"/>
              <a:ext cx="3124080" cy="99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adline schedu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14600" y="2819520"/>
              <a:ext cx="0" cy="2286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047760" y="3124440"/>
              <a:ext cx="2971800" cy="198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733920" y="3962520"/>
              <a:ext cx="2286000" cy="11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648320" y="5639040"/>
              <a:ext cx="838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209680" y="3809880"/>
            <a:ext cx="3238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763720" cy="2590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2836800" cy="25905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rcRect l="4417" t="28747" r="4889" b="8297"/>
          <a:stretch/>
        </p:blipFill>
        <p:spPr>
          <a:xfrm>
            <a:off x="5715000" y="3200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31240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mbedding IT compon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230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mated Pai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0" t="0" r="11214" b="0"/>
          <a:stretch/>
        </p:blipFill>
        <p:spPr>
          <a:xfrm>
            <a:off x="1371600" y="1371600"/>
            <a:ext cx="7238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52280" y="1371600"/>
            <a:ext cx="8763120" cy="502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ynamic Contro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29680" y="1523520"/>
            <a:ext cx="8914320" cy="4725000"/>
            <a:chOff x="229680" y="1523520"/>
            <a:chExt cx="8914320" cy="4725000"/>
          </a:xfrm>
        </p:grpSpPr>
        <p:sp>
          <p:nvSpPr>
            <p:cNvPr id="534" name=""/>
            <p:cNvSpPr/>
            <p:nvPr/>
          </p:nvSpPr>
          <p:spPr>
            <a:xfrm>
              <a:off x="762120" y="2362320"/>
              <a:ext cx="1371600" cy="457200"/>
            </a:xfrm>
            <a:prstGeom prst="rect">
              <a:avLst/>
            </a:prstGeom>
            <a:solidFill>
              <a:srgbClr val="faa4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u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2286000"/>
              <a:ext cx="1218960" cy="53352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95480" y="5715000"/>
              <a:ext cx="160020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Actu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76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4952880"/>
              <a:ext cx="121932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bot Whe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1676520"/>
              <a:ext cx="1218960" cy="53316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71800" y="24382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42670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90920" y="3200400"/>
              <a:ext cx="1828800" cy="53352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4419720"/>
              <a:ext cx="838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181480"/>
              <a:ext cx="990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86400" y="439596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52880" y="2590920"/>
              <a:ext cx="1371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0400" y="2590920"/>
              <a:ext cx="5335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259092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95480" y="5181480"/>
              <a:ext cx="1219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0400" y="4395960"/>
              <a:ext cx="7621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1000" y="266688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480060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01000" y="4038480"/>
              <a:ext cx="9144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7920" y="43959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95680" y="6019920"/>
              <a:ext cx="3733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29600" y="4800600"/>
              <a:ext cx="0" cy="12193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8" name=""/>
            <p:cNvCxnSpPr>
              <a:stCxn id="536" idx="1"/>
            </p:cNvCxnSpPr>
            <p:nvPr/>
          </p:nvCxnSpPr>
          <p:spPr>
            <a:xfrm rot="10800000">
              <a:off x="1666080" y="5333400"/>
              <a:ext cx="1220040" cy="648360"/>
            </a:xfrm>
            <a:prstGeom prst="bentConnector3">
              <a:avLst>
                <a:gd name="adj1" fmla="val 117030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/>
            <p:nvPr/>
          </p:nvCxnSpPr>
          <p:spPr>
            <a:xfrm>
              <a:off x="609480" y="4419360"/>
              <a:ext cx="1067760" cy="648360"/>
            </a:xfrm>
            <a:prstGeom prst="bentConnector3">
              <a:avLst>
                <a:gd name="adj1" fmla="val 2057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43" idx="1"/>
              <a:endCxn id="542" idx="0"/>
            </p:cNvCxnSpPr>
            <p:nvPr/>
          </p:nvCxnSpPr>
          <p:spPr>
            <a:xfrm flipV="1" rot="10800000">
              <a:off x="1332720" y="3466800"/>
              <a:ext cx="1258200" cy="80064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>
              <a:endCxn id="543" idx="3"/>
            </p:cNvCxnSpPr>
            <p:nvPr/>
          </p:nvCxnSpPr>
          <p:spPr>
            <a:xfrm rot="10800000">
              <a:off x="4428360" y="3466440"/>
              <a:ext cx="4115520" cy="572040"/>
            </a:xfrm>
            <a:prstGeom prst="bentConnector3">
              <a:avLst>
                <a:gd name="adj1" fmla="val 7899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62" name=""/>
            <p:cNvSpPr/>
            <p:nvPr/>
          </p:nvSpPr>
          <p:spPr>
            <a:xfrm>
              <a:off x="6324480" y="2209680"/>
              <a:ext cx="1676520" cy="3733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3080" y="3809880"/>
              <a:ext cx="1219320" cy="1905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2362320"/>
              <a:ext cx="1219320" cy="5331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55160" y="302256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6" name=""/>
            <p:cNvCxnSpPr>
              <a:endCxn id="540" idx="3"/>
            </p:cNvCxnSpPr>
            <p:nvPr/>
          </p:nvCxnSpPr>
          <p:spPr>
            <a:xfrm rot="10800000">
              <a:off x="4961880" y="1942560"/>
              <a:ext cx="3353400" cy="724320"/>
            </a:xfrm>
            <a:prstGeom prst="bentConnector3">
              <a:avLst>
                <a:gd name="adj1" fmla="val 182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67" name=""/>
            <p:cNvSpPr/>
            <p:nvPr/>
          </p:nvSpPr>
          <p:spPr>
            <a:xfrm flipV="1">
              <a:off x="8763120" y="1523520"/>
              <a:ext cx="0" cy="2514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57200" y="1523880"/>
              <a:ext cx="830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200" y="1523880"/>
              <a:ext cx="0" cy="1067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259092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endCxn id="541" idx="0"/>
            </p:cNvCxnSpPr>
            <p:nvPr/>
          </p:nvCxnSpPr>
          <p:spPr>
            <a:xfrm flipV="1" rot="10800000">
              <a:off x="3085560" y="1971360"/>
              <a:ext cx="648360" cy="45792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2134080" y="2003400"/>
              <a:ext cx="758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145360" y="3962520"/>
              <a:ext cx="998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3176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8784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r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86400" y="393696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9680" y="3962520"/>
              <a:ext cx="110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an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01360" y="2743200"/>
              <a:ext cx="75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67600" y="248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6360" y="3860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5120" y="43178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25160" y="2108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6520" y="4952880"/>
              <a:ext cx="129528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 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066680" y="1523880"/>
          <a:ext cx="7086600" cy="4562640"/>
        </p:xfrm>
        <a:graphic>
          <a:graphicData uri="http://schemas.openxmlformats.org/drawingml/2006/table">
            <a:tbl>
              <a:tblPr/>
              <a:tblGrid>
                <a:gridCol w="2362320"/>
                <a:gridCol w="3660840"/>
                <a:gridCol w="1063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eorge Be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, Electrical Engineering, Biomed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eter W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SI, Industrial and Systems Engineering, Materials Science,  Astronau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illip Duns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enryk Flash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erospace and Mechan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eil Gershenf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enter for Bits and A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ami Mas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aja Matari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erard Med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U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himon No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ndustrial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iroslaw Skibnie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vi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ur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he fundamental research and develop the software components for automating mega-scale fabr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 components with each other and with robots from other thru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3640" cy="6552720"/>
            <a:chOff x="0" y="0"/>
            <a:chExt cx="9143640" cy="6552720"/>
          </a:xfrm>
        </p:grpSpPr>
        <p:sp>
          <p:nvSpPr>
            <p:cNvPr id="59" name=""/>
            <p:cNvSpPr/>
            <p:nvPr/>
          </p:nvSpPr>
          <p:spPr>
            <a:xfrm>
              <a:off x="1497600" y="799200"/>
              <a:ext cx="6148080" cy="151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rand Challe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4604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15320"/>
              <a:ext cx="9143640" cy="22374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undamental 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200" y="2716920"/>
              <a:ext cx="7646040" cy="127836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Thru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572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udable Materi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a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308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rated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8940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ular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8" idx="0"/>
              <a:endCxn id="64" idx="2"/>
            </p:cNvCxnSpPr>
            <p:nvPr/>
          </p:nvCxnSpPr>
          <p:spPr>
            <a:xfrm flipH="1" flipV="1">
              <a:off x="2101680" y="3515040"/>
              <a:ext cx="15804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9" name=""/>
            <p:cNvCxnSpPr>
              <a:stCxn id="68" idx="0"/>
              <a:endCxn id="66" idx="2"/>
            </p:cNvCxnSpPr>
            <p:nvPr/>
          </p:nvCxnSpPr>
          <p:spPr>
            <a:xfrm flipV="1">
              <a:off x="3681720" y="3515040"/>
              <a:ext cx="8640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"/>
            <p:cNvCxnSpPr>
              <a:stCxn id="71" idx="0"/>
              <a:endCxn id="65" idx="2"/>
            </p:cNvCxnSpPr>
            <p:nvPr/>
          </p:nvCxnSpPr>
          <p:spPr>
            <a:xfrm flipH="1" flipV="1">
              <a:off x="6988680" y="3515040"/>
              <a:ext cx="135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2" name=""/>
            <p:cNvSpPr/>
            <p:nvPr/>
          </p:nvSpPr>
          <p:spPr>
            <a:xfrm>
              <a:off x="2601000" y="958680"/>
              <a:ext cx="3862440" cy="47916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House in a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5528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9200" y="0"/>
              <a:ext cx="7961400" cy="799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Demonst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ga-Scale Layered Fabrica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768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ustrial Pa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Mol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68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estanding Objec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0336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chitect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ale Mod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0336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terrest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76" idx="3"/>
              <a:endCxn id="72" idx="1"/>
            </p:cNvCxnSpPr>
            <p:nvPr/>
          </p:nvCxnSpPr>
          <p:spPr>
            <a:xfrm>
              <a:off x="1339920" y="798840"/>
              <a:ext cx="126144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" name=""/>
            <p:cNvCxnSpPr>
              <a:stCxn id="75" idx="3"/>
              <a:endCxn id="72" idx="1"/>
            </p:cNvCxnSpPr>
            <p:nvPr/>
          </p:nvCxnSpPr>
          <p:spPr>
            <a:xfrm>
              <a:off x="1339920" y="478800"/>
              <a:ext cx="126144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77" idx="1"/>
              <a:endCxn id="72" idx="3"/>
            </p:cNvCxnSpPr>
            <p:nvPr/>
          </p:nvCxnSpPr>
          <p:spPr>
            <a:xfrm flipH="1">
              <a:off x="6463080" y="798840"/>
              <a:ext cx="1340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2" name=""/>
            <p:cNvCxnSpPr>
              <a:stCxn id="78" idx="1"/>
              <a:endCxn id="72" idx="3"/>
            </p:cNvCxnSpPr>
            <p:nvPr/>
          </p:nvCxnSpPr>
          <p:spPr>
            <a:xfrm flipH="1">
              <a:off x="6463080" y="478800"/>
              <a:ext cx="134028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3" name=""/>
            <p:cNvCxnSpPr>
              <a:stCxn id="84" idx="0"/>
              <a:endCxn id="64" idx="2"/>
            </p:cNvCxnSpPr>
            <p:nvPr/>
          </p:nvCxnSpPr>
          <p:spPr>
            <a:xfrm flipV="1">
              <a:off x="2052000" y="3515040"/>
              <a:ext cx="5004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5" name=""/>
            <p:cNvCxnSpPr>
              <a:stCxn id="86" idx="0"/>
              <a:endCxn id="65" idx="2"/>
            </p:cNvCxnSpPr>
            <p:nvPr/>
          </p:nvCxnSpPr>
          <p:spPr>
            <a:xfrm flipV="1">
              <a:off x="5428800" y="3515040"/>
              <a:ext cx="15606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7" name=""/>
            <p:cNvCxnSpPr>
              <a:stCxn id="86" idx="0"/>
              <a:endCxn id="66" idx="2"/>
            </p:cNvCxnSpPr>
            <p:nvPr/>
          </p:nvCxnSpPr>
          <p:spPr>
            <a:xfrm flipH="1" flipV="1">
              <a:off x="4545000" y="3515040"/>
              <a:ext cx="8841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8" name=""/>
            <p:cNvCxnSpPr>
              <a:stCxn id="64" idx="2"/>
              <a:endCxn id="86" idx="0"/>
            </p:cNvCxnSpPr>
            <p:nvPr/>
          </p:nvCxnSpPr>
          <p:spPr>
            <a:xfrm>
              <a:off x="2101680" y="3515400"/>
              <a:ext cx="332748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7803360" y="95868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1"/>
              <a:endCxn id="72" idx="3"/>
            </p:cNvCxnSpPr>
            <p:nvPr/>
          </p:nvCxnSpPr>
          <p:spPr>
            <a:xfrm flipH="1">
              <a:off x="6463080" y="1118520"/>
              <a:ext cx="1340280" cy="8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 flipH="1" flipV="1" rot="16200000">
              <a:off x="6155280" y="3244320"/>
              <a:ext cx="4794480" cy="1182240"/>
            </a:xfrm>
            <a:custGeom>
              <a:avLst/>
              <a:gdLst>
                <a:gd name="textAreaLeft" fmla="*/ 850680 w 4794480"/>
                <a:gd name="textAreaRight" fmla="*/ 342000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5528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960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6960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528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-1805760" y="3004560"/>
              <a:ext cx="4794480" cy="1182240"/>
            </a:xfrm>
            <a:custGeom>
              <a:avLst/>
              <a:gdLst>
                <a:gd name="textAreaLeft" fmla="*/ 850320 w 4794480"/>
                <a:gd name="textAreaRight" fmla="*/ 341964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71" idx="0"/>
              <a:endCxn id="64" idx="2"/>
            </p:cNvCxnSpPr>
            <p:nvPr/>
          </p:nvCxnSpPr>
          <p:spPr>
            <a:xfrm flipH="1" flipV="1">
              <a:off x="2101320" y="3515040"/>
              <a:ext cx="5022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8" name=""/>
            <p:cNvSpPr/>
            <p:nvPr/>
          </p:nvSpPr>
          <p:spPr>
            <a:xfrm>
              <a:off x="6286320" y="479448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hematical Mod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Fabrication 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86320" y="543384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D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Visua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86320" y="5114520"/>
              <a:ext cx="15728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sible Geome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so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85240" y="447480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reeform/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site Materi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84120" y="5114520"/>
              <a:ext cx="14972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uid Dynam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412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vel Structure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0800" y="447480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aterials/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084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flow &amp; Logis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50840" y="575352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stem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sting and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5520" y="5114520"/>
              <a:ext cx="149760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-Rob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5084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aborative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447480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ystems/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6360" y="479448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c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5114520"/>
              <a:ext cx="157608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edding Capab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ring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16360" y="543384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-Time Insp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22560" y="4474800"/>
              <a:ext cx="129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ensing/Ac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7600" y="2317320"/>
              <a:ext cx="6148080" cy="79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stCxn id="72" idx="2"/>
              <a:endCxn id="65" idx="0"/>
            </p:cNvCxnSpPr>
            <p:nvPr/>
          </p:nvCxnSpPr>
          <p:spPr>
            <a:xfrm>
              <a:off x="4532400" y="1437840"/>
              <a:ext cx="245736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3" name=""/>
            <p:cNvCxnSpPr>
              <a:stCxn id="72" idx="2"/>
              <a:endCxn id="64" idx="0"/>
            </p:cNvCxnSpPr>
            <p:nvPr/>
          </p:nvCxnSpPr>
          <p:spPr>
            <a:xfrm flipH="1">
              <a:off x="2101680" y="1437840"/>
              <a:ext cx="243072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" name=""/>
            <p:cNvCxnSpPr>
              <a:stCxn id="72" idx="2"/>
              <a:endCxn id="66" idx="0"/>
            </p:cNvCxnSpPr>
            <p:nvPr/>
          </p:nvCxnSpPr>
          <p:spPr>
            <a:xfrm>
              <a:off x="4532400" y="1437840"/>
              <a:ext cx="1368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06960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rcRect l="24068" t="15781" r="27061" b="13851"/>
          <a:stretch/>
        </p:blipFill>
        <p:spPr>
          <a:xfrm>
            <a:off x="2057400" y="228600"/>
            <a:ext cx="708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50960" y="1754280"/>
          <a:ext cx="8354880" cy="48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1754280"/>
                    <a:ext cx="835488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 Classes of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133720" y="1752480"/>
            <a:ext cx="5275800" cy="3962520"/>
            <a:chOff x="2133720" y="1752480"/>
            <a:chExt cx="5275800" cy="3962520"/>
          </a:xfrm>
        </p:grpSpPr>
        <p:sp>
          <p:nvSpPr>
            <p:cNvPr id="595" name=""/>
            <p:cNvSpPr/>
            <p:nvPr/>
          </p:nvSpPr>
          <p:spPr>
            <a:xfrm>
              <a:off x="21337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7524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69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49528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ecu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"/>
            <p:cNvCxnSpPr>
              <a:stCxn id="596" idx="2"/>
              <a:endCxn id="597" idx="0"/>
            </p:cNvCxnSpPr>
            <p:nvPr/>
          </p:nvCxnSpPr>
          <p:spPr>
            <a:xfrm>
              <a:off x="5790960" y="25146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97" idx="2"/>
              <a:endCxn id="598" idx="0"/>
            </p:cNvCxnSpPr>
            <p:nvPr/>
          </p:nvCxnSpPr>
          <p:spPr>
            <a:xfrm>
              <a:off x="5790960" y="41148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98" idx="3"/>
              <a:endCxn id="597" idx="3"/>
            </p:cNvCxnSpPr>
            <p:nvPr/>
          </p:nvCxnSpPr>
          <p:spPr>
            <a:xfrm flipV="1">
              <a:off x="6705720" y="37328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98" idx="3"/>
              <a:endCxn id="596" idx="3"/>
            </p:cNvCxnSpPr>
            <p:nvPr/>
          </p:nvCxnSpPr>
          <p:spPr>
            <a:xfrm flipV="1">
              <a:off x="6705720" y="2133000"/>
              <a:ext cx="2160" cy="3201120"/>
            </a:xfrm>
            <a:prstGeom prst="curvedConnector5">
              <a:avLst>
                <a:gd name="adj1" fmla="val 39100000"/>
                <a:gd name="adj2" fmla="val 49994"/>
                <a:gd name="adj3" fmla="val 391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95" idx="3"/>
              <a:endCxn id="596" idx="1"/>
            </p:cNvCxnSpPr>
            <p:nvPr/>
          </p:nvCxnSpPr>
          <p:spPr>
            <a:xfrm flipV="1">
              <a:off x="3962520" y="213264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4" name=""/>
            <p:cNvCxnSpPr>
              <a:stCxn id="595" idx="3"/>
              <a:endCxn id="597" idx="1"/>
            </p:cNvCxnSpPr>
            <p:nvPr/>
          </p:nvCxnSpPr>
          <p:spPr>
            <a:xfrm>
              <a:off x="3962520" y="3733200"/>
              <a:ext cx="9151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5" name=""/>
            <p:cNvCxnSpPr>
              <a:stCxn id="595" idx="3"/>
              <a:endCxn id="598" idx="1"/>
            </p:cNvCxnSpPr>
            <p:nvPr/>
          </p:nvCxnSpPr>
          <p:spPr>
            <a:xfrm>
              <a:off x="3962520" y="373320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6" name=""/>
            <p:cNvCxnSpPr/>
            <p:nvPr/>
          </p:nvCxnSpPr>
          <p:spPr>
            <a:xfrm flipV="1">
              <a:off x="6705720" y="21326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ial Secto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pplication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ial Membershi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dustrial membership – 3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Member - $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r Member - $20,000 to $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y Associate – small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nefits to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t on CRAFT ERC industrial advisory board – Senior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ing (Senior Member – exclu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d research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cutting edge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center facilities and expertise for R&amp;D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 with graduate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-University exchang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BIR and STTR partner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-University Company Day – Senior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 Corporation (commit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t Group (commit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o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RA (European Cement Research Acade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Z (German Concrete Research Acade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De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ker-Hannif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a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miz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h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eing (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 (commit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 Forms (Greg Ly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hry Technolog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-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uilds low income housing in Mexico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ency Outdoor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agement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80880" y="1523880"/>
            <a:ext cx="8381880" cy="4572000"/>
            <a:chOff x="380880" y="1523880"/>
            <a:chExt cx="8381880" cy="4572000"/>
          </a:xfrm>
        </p:grpSpPr>
        <p:grpSp>
          <p:nvGrpSpPr>
            <p:cNvPr id="619" name=""/>
            <p:cNvGrpSpPr/>
            <p:nvPr/>
          </p:nvGrpSpPr>
          <p:grpSpPr>
            <a:xfrm>
              <a:off x="380880" y="1523880"/>
              <a:ext cx="8381880" cy="4572000"/>
              <a:chOff x="380880" y="1523880"/>
              <a:chExt cx="8381880" cy="457200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380880" y="1523880"/>
                <a:ext cx="8381880" cy="4572000"/>
                <a:chOff x="380880" y="1523880"/>
                <a:chExt cx="8381880" cy="4572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0880" y="2106000"/>
                  <a:ext cx="2716560" cy="12398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xecutive Board: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vost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ice Provost, Research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an of VSoE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rector of ISI (USC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983920" y="2106000"/>
                  <a:ext cx="2778840" cy="1250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ientific Advisory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dustrial Advisory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udent Leadership Counci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0880" y="3493800"/>
                  <a:ext cx="8376480" cy="941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36400" y="3577680"/>
                  <a:ext cx="2391120" cy="75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Education Direct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65240" y="3610080"/>
                  <a:ext cx="2207160" cy="69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dustrial Liaison Direc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99600" y="4844880"/>
                  <a:ext cx="200628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-College (K-1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ndergraduate &amp; Gradu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utre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REST/LS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PICS/LINC/Fablab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33160" y="4823280"/>
                  <a:ext cx="1909800" cy="1164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dustry Particip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aculty Mini-Sabbat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echnology Trans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llectual Proper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871000" y="4823280"/>
                  <a:ext cx="35503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Grand Challe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echnology Thrusts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Extrudable Materials &amp; Fabr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Modular Components &amp; Assembl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Integrated Software Systems (Neches/Rosenbloo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37280" y="1523880"/>
                  <a:ext cx="2314800" cy="388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v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776760" y="2684160"/>
                <a:ext cx="1528200" cy="17467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Khoshnev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irec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senbloom Deputy Direc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Joe Sulliv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sociate Dir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3436920" y="2101680"/>
              <a:ext cx="2314800" cy="38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an of Engine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14320" y="2845800"/>
              <a:ext cx="678960" cy="194040"/>
            </a:xfrm>
            <a:prstGeom prst="leftRightArrow">
              <a:avLst>
                <a:gd name="adj1" fmla="val 50000"/>
                <a:gd name="adj2" fmla="val 696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97440" y="2845800"/>
              <a:ext cx="678960" cy="194040"/>
            </a:xfrm>
            <a:prstGeom prst="leftRightArrow">
              <a:avLst>
                <a:gd name="adj1" fmla="val 50000"/>
                <a:gd name="adj2" fmla="val 696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56080" y="1907640"/>
              <a:ext cx="168480" cy="192600"/>
            </a:xfrm>
            <a:prstGeom prst="downArrow">
              <a:avLst>
                <a:gd name="adj1" fmla="val 50000"/>
                <a:gd name="adj2" fmla="val 285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56080" y="2489760"/>
              <a:ext cx="169560" cy="194040"/>
            </a:xfrm>
            <a:prstGeom prst="downArrow">
              <a:avLst>
                <a:gd name="adj1" fmla="val 50000"/>
                <a:gd name="adj2" fmla="val 286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99320" y="4350240"/>
              <a:ext cx="240120" cy="468720"/>
            </a:xfrm>
            <a:prstGeom prst="downArrow">
              <a:avLst>
                <a:gd name="adj1" fmla="val 50000"/>
                <a:gd name="adj2" fmla="val 488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3040" y="4334040"/>
              <a:ext cx="240120" cy="468720"/>
            </a:xfrm>
            <a:prstGeom prst="downArrow">
              <a:avLst>
                <a:gd name="adj1" fmla="val 50000"/>
                <a:gd name="adj2" fmla="val 488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56080" y="4430880"/>
              <a:ext cx="240120" cy="388080"/>
            </a:xfrm>
            <a:prstGeom prst="downArrow">
              <a:avLst>
                <a:gd name="adj1" fmla="val 50000"/>
                <a:gd name="adj2" fmla="val 404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3776760" y="26841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6760" y="2684160"/>
              <a:ext cx="15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04960" y="26841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vis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www.ContourCrafting.or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RAFT - Vision and Go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514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develop the science and engineering needed for rapid automated fabrication of structures of various scales, up to very large objects such as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goal is a major breakthrough i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ga-Scal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abr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nd Challe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00" y="1968120"/>
            <a:ext cx="892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uilding a custom-designed house in a day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while radically reducing the costs, injuries, waste and environmental impact associated with traditional construction techn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ffordable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the 30 million U.S. households facing cost burdens or overcrowd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emergency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the 37 million/year victims of natural (and/or man-made) disas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new styles of hous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based on curved rather than straight sur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extraterrestrial building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constructed from in situ materi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ith national construction-related expenditures currently totaling close to $1 trillion annually, the potential impact is enorm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The goa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 revolution in housing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and Challenge – a house in a d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280" y="1752480"/>
            <a:ext cx="1981080" cy="4495680"/>
            <a:chOff x="152280" y="1752480"/>
            <a:chExt cx="1981080" cy="4495680"/>
          </a:xfrm>
        </p:grpSpPr>
        <p:sp>
          <p:nvSpPr>
            <p:cNvPr id="122" name=""/>
            <p:cNvSpPr/>
            <p:nvPr/>
          </p:nvSpPr>
          <p:spPr>
            <a:xfrm>
              <a:off x="152280" y="556236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280" y="480060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403848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75248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327636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251460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6667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velopment Phas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80" y="566640"/>
            <a:ext cx="9118800" cy="6046920"/>
            <a:chOff x="2880" y="566640"/>
            <a:chExt cx="9118800" cy="6046920"/>
          </a:xfrm>
        </p:grpSpPr>
        <p:sp>
          <p:nvSpPr>
            <p:cNvPr id="132" name=""/>
            <p:cNvSpPr/>
            <p:nvPr/>
          </p:nvSpPr>
          <p:spPr>
            <a:xfrm>
              <a:off x="7596360" y="3978360"/>
              <a:ext cx="288720" cy="14580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85040" y="566640"/>
              <a:ext cx="836640" cy="2314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897320" y="1591920"/>
              <a:ext cx="19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2320" y="3976560"/>
              <a:ext cx="289080" cy="1476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9000" y="3976560"/>
              <a:ext cx="290520" cy="1476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51680" y="397836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2320" y="5853240"/>
              <a:ext cx="289080" cy="144360"/>
            </a:xfrm>
            <a:custGeom>
              <a:avLst/>
              <a:gdLst/>
              <a:ahLst/>
              <a:rect l="l" t="t" r="r" b="b"/>
              <a:pathLst>
                <a:path w="366" h="183">
                  <a:moveTo>
                    <a:pt x="0" y="151"/>
                  </a:moveTo>
                  <a:lnTo>
                    <a:pt x="278" y="25"/>
                  </a:lnTo>
                  <a:lnTo>
                    <a:pt x="293" y="57"/>
                  </a:lnTo>
                  <a:lnTo>
                    <a:pt x="16" y="183"/>
                  </a:lnTo>
                  <a:lnTo>
                    <a:pt x="0" y="151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9000" y="585324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3">
                  <a:moveTo>
                    <a:pt x="0" y="151"/>
                  </a:moveTo>
                  <a:lnTo>
                    <a:pt x="277" y="25"/>
                  </a:lnTo>
                  <a:lnTo>
                    <a:pt x="293" y="57"/>
                  </a:lnTo>
                  <a:lnTo>
                    <a:pt x="15" y="183"/>
                  </a:lnTo>
                  <a:lnTo>
                    <a:pt x="0" y="151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900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5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5168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5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6640" y="6180120"/>
              <a:ext cx="290520" cy="14436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7" y="25"/>
                  </a:lnTo>
                  <a:lnTo>
                    <a:pt x="291" y="56"/>
                  </a:lnTo>
                  <a:lnTo>
                    <a:pt x="13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2320" y="5535720"/>
              <a:ext cx="289080" cy="1458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9000" y="553572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29000" y="50878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1680" y="50878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2320" y="4761000"/>
              <a:ext cx="289080" cy="14580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9000" y="4761000"/>
              <a:ext cx="290520" cy="14580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2320" y="442584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29000" y="442584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1680" y="442584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2320" y="363528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5">
                  <a:moveTo>
                    <a:pt x="0" y="153"/>
                  </a:moveTo>
                  <a:lnTo>
                    <a:pt x="278" y="25"/>
                  </a:lnTo>
                  <a:lnTo>
                    <a:pt x="293" y="57"/>
                  </a:lnTo>
                  <a:lnTo>
                    <a:pt x="16" y="185"/>
                  </a:lnTo>
                  <a:lnTo>
                    <a:pt x="0" y="153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29000" y="364176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2320" y="3319560"/>
              <a:ext cx="289080" cy="144360"/>
            </a:xfrm>
            <a:custGeom>
              <a:avLst/>
              <a:gdLst/>
              <a:ahLst/>
              <a:rect l="l" t="t" r="r" b="b"/>
              <a:pathLst>
                <a:path w="366" h="182">
                  <a:moveTo>
                    <a:pt x="0" y="150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6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9000" y="33256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5">
                  <a:moveTo>
                    <a:pt x="0" y="153"/>
                  </a:moveTo>
                  <a:lnTo>
                    <a:pt x="277" y="25"/>
                  </a:lnTo>
                  <a:lnTo>
                    <a:pt x="293" y="57"/>
                  </a:lnTo>
                  <a:lnTo>
                    <a:pt x="15" y="185"/>
                  </a:lnTo>
                  <a:lnTo>
                    <a:pt x="0" y="153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2320" y="2895480"/>
              <a:ext cx="289080" cy="146160"/>
            </a:xfrm>
            <a:custGeom>
              <a:avLst/>
              <a:gdLst/>
              <a:ahLst/>
              <a:rect l="l" t="t" r="r" b="b"/>
              <a:pathLst>
                <a:path w="366" h="184">
                  <a:moveTo>
                    <a:pt x="0" y="152"/>
                  </a:moveTo>
                  <a:lnTo>
                    <a:pt x="278" y="24"/>
                  </a:lnTo>
                  <a:lnTo>
                    <a:pt x="293" y="56"/>
                  </a:lnTo>
                  <a:lnTo>
                    <a:pt x="16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6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9000" y="2895480"/>
              <a:ext cx="290520" cy="146160"/>
            </a:xfrm>
            <a:custGeom>
              <a:avLst/>
              <a:gdLst/>
              <a:ahLst/>
              <a:rect l="l" t="t" r="r" b="b"/>
              <a:pathLst>
                <a:path w="365" h="184">
                  <a:moveTo>
                    <a:pt x="0" y="152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4"/>
                  </a:lnTo>
                  <a:lnTo>
                    <a:pt x="0" y="152"/>
                  </a:lnTo>
                  <a:close/>
                  <a:moveTo>
                    <a:pt x="245" y="0"/>
                  </a:moveTo>
                  <a:lnTo>
                    <a:pt x="365" y="4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1680" y="2897280"/>
              <a:ext cx="290520" cy="144360"/>
            </a:xfrm>
            <a:custGeom>
              <a:avLst/>
              <a:gdLst/>
              <a:ahLst/>
              <a:rect l="l" t="t" r="r" b="b"/>
              <a:pathLst>
                <a:path w="365" h="182">
                  <a:moveTo>
                    <a:pt x="0" y="150"/>
                  </a:moveTo>
                  <a:lnTo>
                    <a:pt x="277" y="24"/>
                  </a:lnTo>
                  <a:lnTo>
                    <a:pt x="293" y="56"/>
                  </a:lnTo>
                  <a:lnTo>
                    <a:pt x="15" y="182"/>
                  </a:lnTo>
                  <a:lnTo>
                    <a:pt x="0" y="150"/>
                  </a:lnTo>
                  <a:close/>
                  <a:moveTo>
                    <a:pt x="245" y="0"/>
                  </a:moveTo>
                  <a:lnTo>
                    <a:pt x="365" y="2"/>
                  </a:lnTo>
                  <a:lnTo>
                    <a:pt x="291" y="9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5040" y="2881440"/>
              <a:ext cx="836640" cy="1509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529840" y="355500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ud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8412840" y="3551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8073360" y="3575520"/>
              <a:ext cx="97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Fabr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" y="566640"/>
              <a:ext cx="9118440" cy="604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8240" y="2201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ing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01480" y="237024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Resid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79720" y="2136600"/>
              <a:ext cx="133380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90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70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2" y="118"/>
                  </a:lnTo>
                  <a:lnTo>
                    <a:pt x="167" y="131"/>
                  </a:lnTo>
                  <a:lnTo>
                    <a:pt x="144" y="143"/>
                  </a:lnTo>
                  <a:lnTo>
                    <a:pt x="121" y="156"/>
                  </a:lnTo>
                  <a:lnTo>
                    <a:pt x="102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1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2" y="269"/>
                  </a:lnTo>
                  <a:lnTo>
                    <a:pt x="10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10" y="376"/>
                  </a:lnTo>
                  <a:lnTo>
                    <a:pt x="12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1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2" y="483"/>
                  </a:lnTo>
                  <a:lnTo>
                    <a:pt x="121" y="496"/>
                  </a:lnTo>
                  <a:lnTo>
                    <a:pt x="144" y="509"/>
                  </a:lnTo>
                  <a:lnTo>
                    <a:pt x="167" y="522"/>
                  </a:lnTo>
                  <a:lnTo>
                    <a:pt x="192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70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90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3" y="652"/>
                  </a:lnTo>
                  <a:lnTo>
                    <a:pt x="927" y="652"/>
                  </a:lnTo>
                  <a:lnTo>
                    <a:pt x="969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30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1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5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3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7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3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4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4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3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7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3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5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1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30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5" y="0"/>
                  </a:lnTo>
                  <a:lnTo>
                    <a:pt x="883" y="0"/>
                  </a:lnTo>
                  <a:lnTo>
                    <a:pt x="84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4600" y="2062080"/>
              <a:ext cx="133488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89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69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1" y="118"/>
                  </a:lnTo>
                  <a:lnTo>
                    <a:pt x="166" y="131"/>
                  </a:lnTo>
                  <a:lnTo>
                    <a:pt x="143" y="143"/>
                  </a:lnTo>
                  <a:lnTo>
                    <a:pt x="120" y="156"/>
                  </a:lnTo>
                  <a:lnTo>
                    <a:pt x="101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0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1" y="269"/>
                  </a:lnTo>
                  <a:lnTo>
                    <a:pt x="9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9" y="376"/>
                  </a:lnTo>
                  <a:lnTo>
                    <a:pt x="11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0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1" y="483"/>
                  </a:lnTo>
                  <a:lnTo>
                    <a:pt x="120" y="496"/>
                  </a:lnTo>
                  <a:lnTo>
                    <a:pt x="143" y="509"/>
                  </a:lnTo>
                  <a:lnTo>
                    <a:pt x="166" y="522"/>
                  </a:lnTo>
                  <a:lnTo>
                    <a:pt x="191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69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89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2" y="652"/>
                  </a:lnTo>
                  <a:lnTo>
                    <a:pt x="926" y="652"/>
                  </a:lnTo>
                  <a:lnTo>
                    <a:pt x="968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29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0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4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2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6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2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3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3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2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6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2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4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0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29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4" y="0"/>
                  </a:lnTo>
                  <a:lnTo>
                    <a:pt x="882" y="0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4600" y="2062080"/>
              <a:ext cx="1334880" cy="519120"/>
            </a:xfrm>
            <a:custGeom>
              <a:avLst/>
              <a:gdLst/>
              <a:ahLst/>
              <a:rect l="l" t="t" r="r" b="b"/>
              <a:pathLst>
                <a:path w="1681" h="652">
                  <a:moveTo>
                    <a:pt x="840" y="0"/>
                  </a:moveTo>
                  <a:lnTo>
                    <a:pt x="796" y="0"/>
                  </a:lnTo>
                  <a:lnTo>
                    <a:pt x="754" y="2"/>
                  </a:lnTo>
                  <a:lnTo>
                    <a:pt x="712" y="3"/>
                  </a:lnTo>
                  <a:lnTo>
                    <a:pt x="670" y="5"/>
                  </a:lnTo>
                  <a:lnTo>
                    <a:pt x="630" y="9"/>
                  </a:lnTo>
                  <a:lnTo>
                    <a:pt x="589" y="13"/>
                  </a:lnTo>
                  <a:lnTo>
                    <a:pt x="551" y="19"/>
                  </a:lnTo>
                  <a:lnTo>
                    <a:pt x="513" y="24"/>
                  </a:lnTo>
                  <a:lnTo>
                    <a:pt x="475" y="32"/>
                  </a:lnTo>
                  <a:lnTo>
                    <a:pt x="438" y="39"/>
                  </a:lnTo>
                  <a:lnTo>
                    <a:pt x="404" y="47"/>
                  </a:lnTo>
                  <a:lnTo>
                    <a:pt x="369" y="54"/>
                  </a:lnTo>
                  <a:lnTo>
                    <a:pt x="337" y="64"/>
                  </a:lnTo>
                  <a:lnTo>
                    <a:pt x="304" y="73"/>
                  </a:lnTo>
                  <a:lnTo>
                    <a:pt x="274" y="84"/>
                  </a:lnTo>
                  <a:lnTo>
                    <a:pt x="245" y="96"/>
                  </a:lnTo>
                  <a:lnTo>
                    <a:pt x="218" y="107"/>
                  </a:lnTo>
                  <a:lnTo>
                    <a:pt x="191" y="118"/>
                  </a:lnTo>
                  <a:lnTo>
                    <a:pt x="166" y="131"/>
                  </a:lnTo>
                  <a:lnTo>
                    <a:pt x="143" y="143"/>
                  </a:lnTo>
                  <a:lnTo>
                    <a:pt x="120" y="156"/>
                  </a:lnTo>
                  <a:lnTo>
                    <a:pt x="101" y="171"/>
                  </a:lnTo>
                  <a:lnTo>
                    <a:pt x="82" y="184"/>
                  </a:lnTo>
                  <a:lnTo>
                    <a:pt x="65" y="199"/>
                  </a:lnTo>
                  <a:lnTo>
                    <a:pt x="50" y="214"/>
                  </a:lnTo>
                  <a:lnTo>
                    <a:pt x="36" y="229"/>
                  </a:lnTo>
                  <a:lnTo>
                    <a:pt x="30" y="237"/>
                  </a:lnTo>
                  <a:lnTo>
                    <a:pt x="25" y="244"/>
                  </a:lnTo>
                  <a:lnTo>
                    <a:pt x="21" y="252"/>
                  </a:lnTo>
                  <a:lnTo>
                    <a:pt x="15" y="261"/>
                  </a:lnTo>
                  <a:lnTo>
                    <a:pt x="11" y="269"/>
                  </a:lnTo>
                  <a:lnTo>
                    <a:pt x="9" y="276"/>
                  </a:lnTo>
                  <a:lnTo>
                    <a:pt x="6" y="284"/>
                  </a:lnTo>
                  <a:lnTo>
                    <a:pt x="4" y="293"/>
                  </a:lnTo>
                  <a:lnTo>
                    <a:pt x="2" y="301"/>
                  </a:lnTo>
                  <a:lnTo>
                    <a:pt x="0" y="310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8"/>
                  </a:lnTo>
                  <a:lnTo>
                    <a:pt x="9" y="376"/>
                  </a:lnTo>
                  <a:lnTo>
                    <a:pt x="11" y="383"/>
                  </a:lnTo>
                  <a:lnTo>
                    <a:pt x="15" y="393"/>
                  </a:lnTo>
                  <a:lnTo>
                    <a:pt x="21" y="400"/>
                  </a:lnTo>
                  <a:lnTo>
                    <a:pt x="25" y="408"/>
                  </a:lnTo>
                  <a:lnTo>
                    <a:pt x="30" y="415"/>
                  </a:lnTo>
                  <a:lnTo>
                    <a:pt x="36" y="423"/>
                  </a:lnTo>
                  <a:lnTo>
                    <a:pt x="50" y="438"/>
                  </a:lnTo>
                  <a:lnTo>
                    <a:pt x="65" y="453"/>
                  </a:lnTo>
                  <a:lnTo>
                    <a:pt x="82" y="468"/>
                  </a:lnTo>
                  <a:lnTo>
                    <a:pt x="101" y="483"/>
                  </a:lnTo>
                  <a:lnTo>
                    <a:pt x="120" y="496"/>
                  </a:lnTo>
                  <a:lnTo>
                    <a:pt x="143" y="509"/>
                  </a:lnTo>
                  <a:lnTo>
                    <a:pt x="166" y="522"/>
                  </a:lnTo>
                  <a:lnTo>
                    <a:pt x="191" y="534"/>
                  </a:lnTo>
                  <a:lnTo>
                    <a:pt x="218" y="547"/>
                  </a:lnTo>
                  <a:lnTo>
                    <a:pt x="245" y="558"/>
                  </a:lnTo>
                  <a:lnTo>
                    <a:pt x="274" y="568"/>
                  </a:lnTo>
                  <a:lnTo>
                    <a:pt x="304" y="579"/>
                  </a:lnTo>
                  <a:lnTo>
                    <a:pt x="337" y="588"/>
                  </a:lnTo>
                  <a:lnTo>
                    <a:pt x="369" y="598"/>
                  </a:lnTo>
                  <a:lnTo>
                    <a:pt x="404" y="605"/>
                  </a:lnTo>
                  <a:lnTo>
                    <a:pt x="438" y="615"/>
                  </a:lnTo>
                  <a:lnTo>
                    <a:pt x="475" y="620"/>
                  </a:lnTo>
                  <a:lnTo>
                    <a:pt x="513" y="628"/>
                  </a:lnTo>
                  <a:lnTo>
                    <a:pt x="551" y="633"/>
                  </a:lnTo>
                  <a:lnTo>
                    <a:pt x="589" y="639"/>
                  </a:lnTo>
                  <a:lnTo>
                    <a:pt x="630" y="643"/>
                  </a:lnTo>
                  <a:lnTo>
                    <a:pt x="670" y="646"/>
                  </a:lnTo>
                  <a:lnTo>
                    <a:pt x="712" y="648"/>
                  </a:lnTo>
                  <a:lnTo>
                    <a:pt x="754" y="652"/>
                  </a:lnTo>
                  <a:lnTo>
                    <a:pt x="796" y="652"/>
                  </a:lnTo>
                  <a:lnTo>
                    <a:pt x="840" y="652"/>
                  </a:lnTo>
                  <a:lnTo>
                    <a:pt x="882" y="652"/>
                  </a:lnTo>
                  <a:lnTo>
                    <a:pt x="926" y="652"/>
                  </a:lnTo>
                  <a:lnTo>
                    <a:pt x="968" y="650"/>
                  </a:lnTo>
                  <a:lnTo>
                    <a:pt x="1009" y="646"/>
                  </a:lnTo>
                  <a:lnTo>
                    <a:pt x="1049" y="643"/>
                  </a:lnTo>
                  <a:lnTo>
                    <a:pt x="1089" y="639"/>
                  </a:lnTo>
                  <a:lnTo>
                    <a:pt x="1129" y="633"/>
                  </a:lnTo>
                  <a:lnTo>
                    <a:pt x="1168" y="628"/>
                  </a:lnTo>
                  <a:lnTo>
                    <a:pt x="1204" y="620"/>
                  </a:lnTo>
                  <a:lnTo>
                    <a:pt x="1240" y="615"/>
                  </a:lnTo>
                  <a:lnTo>
                    <a:pt x="1275" y="605"/>
                  </a:lnTo>
                  <a:lnTo>
                    <a:pt x="1309" y="598"/>
                  </a:lnTo>
                  <a:lnTo>
                    <a:pt x="1342" y="588"/>
                  </a:lnTo>
                  <a:lnTo>
                    <a:pt x="1374" y="579"/>
                  </a:lnTo>
                  <a:lnTo>
                    <a:pt x="1405" y="568"/>
                  </a:lnTo>
                  <a:lnTo>
                    <a:pt x="1434" y="558"/>
                  </a:lnTo>
                  <a:lnTo>
                    <a:pt x="1462" y="547"/>
                  </a:lnTo>
                  <a:lnTo>
                    <a:pt x="1487" y="534"/>
                  </a:lnTo>
                  <a:lnTo>
                    <a:pt x="1512" y="522"/>
                  </a:lnTo>
                  <a:lnTo>
                    <a:pt x="1537" y="509"/>
                  </a:lnTo>
                  <a:lnTo>
                    <a:pt x="1558" y="496"/>
                  </a:lnTo>
                  <a:lnTo>
                    <a:pt x="1579" y="483"/>
                  </a:lnTo>
                  <a:lnTo>
                    <a:pt x="1596" y="468"/>
                  </a:lnTo>
                  <a:lnTo>
                    <a:pt x="1614" y="453"/>
                  </a:lnTo>
                  <a:lnTo>
                    <a:pt x="1629" y="438"/>
                  </a:lnTo>
                  <a:lnTo>
                    <a:pt x="1642" y="423"/>
                  </a:lnTo>
                  <a:lnTo>
                    <a:pt x="1648" y="415"/>
                  </a:lnTo>
                  <a:lnTo>
                    <a:pt x="1654" y="408"/>
                  </a:lnTo>
                  <a:lnTo>
                    <a:pt x="1658" y="400"/>
                  </a:lnTo>
                  <a:lnTo>
                    <a:pt x="1663" y="393"/>
                  </a:lnTo>
                  <a:lnTo>
                    <a:pt x="1667" y="383"/>
                  </a:lnTo>
                  <a:lnTo>
                    <a:pt x="1671" y="376"/>
                  </a:lnTo>
                  <a:lnTo>
                    <a:pt x="1673" y="368"/>
                  </a:lnTo>
                  <a:lnTo>
                    <a:pt x="1675" y="359"/>
                  </a:lnTo>
                  <a:lnTo>
                    <a:pt x="1677" y="351"/>
                  </a:lnTo>
                  <a:lnTo>
                    <a:pt x="1679" y="344"/>
                  </a:lnTo>
                  <a:lnTo>
                    <a:pt x="1681" y="334"/>
                  </a:lnTo>
                  <a:lnTo>
                    <a:pt x="1681" y="327"/>
                  </a:lnTo>
                  <a:lnTo>
                    <a:pt x="1681" y="317"/>
                  </a:lnTo>
                  <a:lnTo>
                    <a:pt x="1679" y="310"/>
                  </a:lnTo>
                  <a:lnTo>
                    <a:pt x="1677" y="301"/>
                  </a:lnTo>
                  <a:lnTo>
                    <a:pt x="1675" y="293"/>
                  </a:lnTo>
                  <a:lnTo>
                    <a:pt x="1673" y="284"/>
                  </a:lnTo>
                  <a:lnTo>
                    <a:pt x="1671" y="276"/>
                  </a:lnTo>
                  <a:lnTo>
                    <a:pt x="1667" y="269"/>
                  </a:lnTo>
                  <a:lnTo>
                    <a:pt x="1663" y="261"/>
                  </a:lnTo>
                  <a:lnTo>
                    <a:pt x="1658" y="252"/>
                  </a:lnTo>
                  <a:lnTo>
                    <a:pt x="1654" y="244"/>
                  </a:lnTo>
                  <a:lnTo>
                    <a:pt x="1648" y="237"/>
                  </a:lnTo>
                  <a:lnTo>
                    <a:pt x="1642" y="229"/>
                  </a:lnTo>
                  <a:lnTo>
                    <a:pt x="1629" y="214"/>
                  </a:lnTo>
                  <a:lnTo>
                    <a:pt x="1614" y="199"/>
                  </a:lnTo>
                  <a:lnTo>
                    <a:pt x="1596" y="184"/>
                  </a:lnTo>
                  <a:lnTo>
                    <a:pt x="1579" y="171"/>
                  </a:lnTo>
                  <a:lnTo>
                    <a:pt x="1558" y="156"/>
                  </a:lnTo>
                  <a:lnTo>
                    <a:pt x="1537" y="143"/>
                  </a:lnTo>
                  <a:lnTo>
                    <a:pt x="1512" y="131"/>
                  </a:lnTo>
                  <a:lnTo>
                    <a:pt x="1487" y="118"/>
                  </a:lnTo>
                  <a:lnTo>
                    <a:pt x="1462" y="107"/>
                  </a:lnTo>
                  <a:lnTo>
                    <a:pt x="1434" y="96"/>
                  </a:lnTo>
                  <a:lnTo>
                    <a:pt x="1405" y="84"/>
                  </a:lnTo>
                  <a:lnTo>
                    <a:pt x="1374" y="73"/>
                  </a:lnTo>
                  <a:lnTo>
                    <a:pt x="1342" y="64"/>
                  </a:lnTo>
                  <a:lnTo>
                    <a:pt x="1309" y="54"/>
                  </a:lnTo>
                  <a:lnTo>
                    <a:pt x="1275" y="47"/>
                  </a:lnTo>
                  <a:lnTo>
                    <a:pt x="1240" y="39"/>
                  </a:lnTo>
                  <a:lnTo>
                    <a:pt x="1204" y="32"/>
                  </a:lnTo>
                  <a:lnTo>
                    <a:pt x="1168" y="24"/>
                  </a:lnTo>
                  <a:lnTo>
                    <a:pt x="1129" y="19"/>
                  </a:lnTo>
                  <a:lnTo>
                    <a:pt x="1089" y="13"/>
                  </a:lnTo>
                  <a:lnTo>
                    <a:pt x="1049" y="9"/>
                  </a:lnTo>
                  <a:lnTo>
                    <a:pt x="1009" y="5"/>
                  </a:lnTo>
                  <a:lnTo>
                    <a:pt x="967" y="3"/>
                  </a:lnTo>
                  <a:lnTo>
                    <a:pt x="924" y="0"/>
                  </a:lnTo>
                  <a:lnTo>
                    <a:pt x="882" y="0"/>
                  </a:lnTo>
                  <a:lnTo>
                    <a:pt x="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4200" y="2127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7440" y="229536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d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59000" y="183672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1560" y="1836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9520" y="18367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1560" y="204624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5560" y="2046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3520" y="204624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1719360"/>
              <a:ext cx="1521000" cy="637920"/>
            </a:xfrm>
            <a:custGeom>
              <a:avLst/>
              <a:gdLst/>
              <a:ahLst/>
              <a:rect l="l" t="t" r="r" b="b"/>
              <a:pathLst>
                <a:path w="1914" h="803">
                  <a:moveTo>
                    <a:pt x="957" y="2"/>
                  </a:moveTo>
                  <a:lnTo>
                    <a:pt x="907" y="2"/>
                  </a:lnTo>
                  <a:lnTo>
                    <a:pt x="857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499" y="49"/>
                  </a:lnTo>
                  <a:lnTo>
                    <a:pt x="459" y="59"/>
                  </a:lnTo>
                  <a:lnTo>
                    <a:pt x="421" y="70"/>
                  </a:lnTo>
                  <a:lnTo>
                    <a:pt x="383" y="81"/>
                  </a:lnTo>
                  <a:lnTo>
                    <a:pt x="348" y="92"/>
                  </a:lnTo>
                  <a:lnTo>
                    <a:pt x="312" y="106"/>
                  </a:lnTo>
                  <a:lnTo>
                    <a:pt x="279" y="119"/>
                  </a:lnTo>
                  <a:lnTo>
                    <a:pt x="247" y="134"/>
                  </a:lnTo>
                  <a:lnTo>
                    <a:pt x="218" y="147"/>
                  </a:lnTo>
                  <a:lnTo>
                    <a:pt x="189" y="162"/>
                  </a:lnTo>
                  <a:lnTo>
                    <a:pt x="162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3" y="220"/>
                  </a:lnTo>
                  <a:lnTo>
                    <a:pt x="94" y="230"/>
                  </a:lnTo>
                  <a:lnTo>
                    <a:pt x="84" y="237"/>
                  </a:lnTo>
                  <a:lnTo>
                    <a:pt x="74" y="247"/>
                  </a:lnTo>
                  <a:lnTo>
                    <a:pt x="65" y="256"/>
                  </a:lnTo>
                  <a:lnTo>
                    <a:pt x="57" y="265"/>
                  </a:lnTo>
                  <a:lnTo>
                    <a:pt x="50" y="275"/>
                  </a:lnTo>
                  <a:lnTo>
                    <a:pt x="42" y="284"/>
                  </a:lnTo>
                  <a:lnTo>
                    <a:pt x="34" y="294"/>
                  </a:lnTo>
                  <a:lnTo>
                    <a:pt x="28" y="303"/>
                  </a:lnTo>
                  <a:lnTo>
                    <a:pt x="23" y="312"/>
                  </a:lnTo>
                  <a:lnTo>
                    <a:pt x="19" y="322"/>
                  </a:lnTo>
                  <a:lnTo>
                    <a:pt x="13" y="331"/>
                  </a:lnTo>
                  <a:lnTo>
                    <a:pt x="9" y="342"/>
                  </a:lnTo>
                  <a:lnTo>
                    <a:pt x="7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7" y="453"/>
                  </a:lnTo>
                  <a:lnTo>
                    <a:pt x="9" y="465"/>
                  </a:lnTo>
                  <a:lnTo>
                    <a:pt x="13" y="474"/>
                  </a:lnTo>
                  <a:lnTo>
                    <a:pt x="19" y="483"/>
                  </a:lnTo>
                  <a:lnTo>
                    <a:pt x="23" y="493"/>
                  </a:lnTo>
                  <a:lnTo>
                    <a:pt x="28" y="502"/>
                  </a:lnTo>
                  <a:lnTo>
                    <a:pt x="34" y="512"/>
                  </a:lnTo>
                  <a:lnTo>
                    <a:pt x="42" y="523"/>
                  </a:lnTo>
                  <a:lnTo>
                    <a:pt x="50" y="532"/>
                  </a:lnTo>
                  <a:lnTo>
                    <a:pt x="57" y="540"/>
                  </a:lnTo>
                  <a:lnTo>
                    <a:pt x="65" y="549"/>
                  </a:lnTo>
                  <a:lnTo>
                    <a:pt x="74" y="559"/>
                  </a:lnTo>
                  <a:lnTo>
                    <a:pt x="84" y="568"/>
                  </a:lnTo>
                  <a:lnTo>
                    <a:pt x="94" y="577"/>
                  </a:lnTo>
                  <a:lnTo>
                    <a:pt x="103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2" y="626"/>
                  </a:lnTo>
                  <a:lnTo>
                    <a:pt x="189" y="643"/>
                  </a:lnTo>
                  <a:lnTo>
                    <a:pt x="218" y="658"/>
                  </a:lnTo>
                  <a:lnTo>
                    <a:pt x="247" y="673"/>
                  </a:lnTo>
                  <a:lnTo>
                    <a:pt x="279" y="687"/>
                  </a:lnTo>
                  <a:lnTo>
                    <a:pt x="312" y="700"/>
                  </a:lnTo>
                  <a:lnTo>
                    <a:pt x="348" y="713"/>
                  </a:lnTo>
                  <a:lnTo>
                    <a:pt x="383" y="724"/>
                  </a:lnTo>
                  <a:lnTo>
                    <a:pt x="421" y="735"/>
                  </a:lnTo>
                  <a:lnTo>
                    <a:pt x="459" y="747"/>
                  </a:lnTo>
                  <a:lnTo>
                    <a:pt x="499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7" y="801"/>
                  </a:lnTo>
                  <a:lnTo>
                    <a:pt x="907" y="803"/>
                  </a:lnTo>
                  <a:lnTo>
                    <a:pt x="957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2" y="799"/>
                  </a:lnTo>
                  <a:lnTo>
                    <a:pt x="1148" y="796"/>
                  </a:lnTo>
                  <a:lnTo>
                    <a:pt x="1196" y="792"/>
                  </a:lnTo>
                  <a:lnTo>
                    <a:pt x="1240" y="786"/>
                  </a:lnTo>
                  <a:lnTo>
                    <a:pt x="1284" y="781"/>
                  </a:lnTo>
                  <a:lnTo>
                    <a:pt x="1328" y="773"/>
                  </a:lnTo>
                  <a:lnTo>
                    <a:pt x="1370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1" y="735"/>
                  </a:lnTo>
                  <a:lnTo>
                    <a:pt x="1529" y="724"/>
                  </a:lnTo>
                  <a:lnTo>
                    <a:pt x="1566" y="713"/>
                  </a:lnTo>
                  <a:lnTo>
                    <a:pt x="1600" y="700"/>
                  </a:lnTo>
                  <a:lnTo>
                    <a:pt x="1633" y="687"/>
                  </a:lnTo>
                  <a:lnTo>
                    <a:pt x="1665" y="673"/>
                  </a:lnTo>
                  <a:lnTo>
                    <a:pt x="1694" y="658"/>
                  </a:lnTo>
                  <a:lnTo>
                    <a:pt x="1723" y="643"/>
                  </a:lnTo>
                  <a:lnTo>
                    <a:pt x="1749" y="626"/>
                  </a:lnTo>
                  <a:lnTo>
                    <a:pt x="1774" y="611"/>
                  </a:lnTo>
                  <a:lnTo>
                    <a:pt x="1797" y="594"/>
                  </a:lnTo>
                  <a:lnTo>
                    <a:pt x="1809" y="585"/>
                  </a:lnTo>
                  <a:lnTo>
                    <a:pt x="1818" y="577"/>
                  </a:lnTo>
                  <a:lnTo>
                    <a:pt x="1828" y="568"/>
                  </a:lnTo>
                  <a:lnTo>
                    <a:pt x="1837" y="559"/>
                  </a:lnTo>
                  <a:lnTo>
                    <a:pt x="1847" y="549"/>
                  </a:lnTo>
                  <a:lnTo>
                    <a:pt x="1855" y="540"/>
                  </a:lnTo>
                  <a:lnTo>
                    <a:pt x="1862" y="532"/>
                  </a:lnTo>
                  <a:lnTo>
                    <a:pt x="1870" y="523"/>
                  </a:lnTo>
                  <a:lnTo>
                    <a:pt x="1878" y="512"/>
                  </a:lnTo>
                  <a:lnTo>
                    <a:pt x="1883" y="502"/>
                  </a:lnTo>
                  <a:lnTo>
                    <a:pt x="1889" y="493"/>
                  </a:lnTo>
                  <a:lnTo>
                    <a:pt x="1893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6" y="453"/>
                  </a:lnTo>
                  <a:lnTo>
                    <a:pt x="1908" y="444"/>
                  </a:lnTo>
                  <a:lnTo>
                    <a:pt x="1910" y="433"/>
                  </a:lnTo>
                  <a:lnTo>
                    <a:pt x="1912" y="423"/>
                  </a:lnTo>
                  <a:lnTo>
                    <a:pt x="1912" y="414"/>
                  </a:lnTo>
                  <a:lnTo>
                    <a:pt x="1914" y="403"/>
                  </a:lnTo>
                  <a:lnTo>
                    <a:pt x="1912" y="393"/>
                  </a:lnTo>
                  <a:lnTo>
                    <a:pt x="1912" y="382"/>
                  </a:lnTo>
                  <a:lnTo>
                    <a:pt x="1910" y="373"/>
                  </a:lnTo>
                  <a:lnTo>
                    <a:pt x="1908" y="361"/>
                  </a:lnTo>
                  <a:lnTo>
                    <a:pt x="1906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3" y="322"/>
                  </a:lnTo>
                  <a:lnTo>
                    <a:pt x="1889" y="312"/>
                  </a:lnTo>
                  <a:lnTo>
                    <a:pt x="1883" y="303"/>
                  </a:lnTo>
                  <a:lnTo>
                    <a:pt x="1878" y="294"/>
                  </a:lnTo>
                  <a:lnTo>
                    <a:pt x="1870" y="284"/>
                  </a:lnTo>
                  <a:lnTo>
                    <a:pt x="1862" y="275"/>
                  </a:lnTo>
                  <a:lnTo>
                    <a:pt x="1855" y="265"/>
                  </a:lnTo>
                  <a:lnTo>
                    <a:pt x="1847" y="256"/>
                  </a:lnTo>
                  <a:lnTo>
                    <a:pt x="1837" y="247"/>
                  </a:lnTo>
                  <a:lnTo>
                    <a:pt x="1828" y="237"/>
                  </a:lnTo>
                  <a:lnTo>
                    <a:pt x="1818" y="230"/>
                  </a:lnTo>
                  <a:lnTo>
                    <a:pt x="1809" y="220"/>
                  </a:lnTo>
                  <a:lnTo>
                    <a:pt x="1797" y="211"/>
                  </a:lnTo>
                  <a:lnTo>
                    <a:pt x="1774" y="194"/>
                  </a:lnTo>
                  <a:lnTo>
                    <a:pt x="1749" y="179"/>
                  </a:lnTo>
                  <a:lnTo>
                    <a:pt x="1723" y="162"/>
                  </a:lnTo>
                  <a:lnTo>
                    <a:pt x="1694" y="147"/>
                  </a:lnTo>
                  <a:lnTo>
                    <a:pt x="1665" y="134"/>
                  </a:lnTo>
                  <a:lnTo>
                    <a:pt x="1633" y="119"/>
                  </a:lnTo>
                  <a:lnTo>
                    <a:pt x="1600" y="106"/>
                  </a:lnTo>
                  <a:lnTo>
                    <a:pt x="1566" y="92"/>
                  </a:lnTo>
                  <a:lnTo>
                    <a:pt x="1529" y="81"/>
                  </a:lnTo>
                  <a:lnTo>
                    <a:pt x="1491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0" y="42"/>
                  </a:lnTo>
                  <a:lnTo>
                    <a:pt x="1328" y="32"/>
                  </a:lnTo>
                  <a:lnTo>
                    <a:pt x="1284" y="25"/>
                  </a:lnTo>
                  <a:lnTo>
                    <a:pt x="1240" y="19"/>
                  </a:lnTo>
                  <a:lnTo>
                    <a:pt x="1194" y="13"/>
                  </a:lnTo>
                  <a:lnTo>
                    <a:pt x="1148" y="10"/>
                  </a:lnTo>
                  <a:lnTo>
                    <a:pt x="1102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5" y="0"/>
                  </a:lnTo>
                  <a:lnTo>
                    <a:pt x="957" y="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26080" y="1644480"/>
              <a:ext cx="1519200" cy="638280"/>
            </a:xfrm>
            <a:custGeom>
              <a:avLst/>
              <a:gdLst/>
              <a:ahLst/>
              <a:rect l="l" t="t" r="r" b="b"/>
              <a:pathLst>
                <a:path w="1915" h="803">
                  <a:moveTo>
                    <a:pt x="958" y="2"/>
                  </a:moveTo>
                  <a:lnTo>
                    <a:pt x="908" y="2"/>
                  </a:lnTo>
                  <a:lnTo>
                    <a:pt x="858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500" y="49"/>
                  </a:lnTo>
                  <a:lnTo>
                    <a:pt x="460" y="59"/>
                  </a:lnTo>
                  <a:lnTo>
                    <a:pt x="422" y="70"/>
                  </a:lnTo>
                  <a:lnTo>
                    <a:pt x="383" y="81"/>
                  </a:lnTo>
                  <a:lnTo>
                    <a:pt x="349" y="92"/>
                  </a:lnTo>
                  <a:lnTo>
                    <a:pt x="313" y="106"/>
                  </a:lnTo>
                  <a:lnTo>
                    <a:pt x="280" y="119"/>
                  </a:lnTo>
                  <a:lnTo>
                    <a:pt x="247" y="134"/>
                  </a:lnTo>
                  <a:lnTo>
                    <a:pt x="219" y="147"/>
                  </a:lnTo>
                  <a:lnTo>
                    <a:pt x="190" y="162"/>
                  </a:lnTo>
                  <a:lnTo>
                    <a:pt x="163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4" y="220"/>
                  </a:lnTo>
                  <a:lnTo>
                    <a:pt x="94" y="230"/>
                  </a:lnTo>
                  <a:lnTo>
                    <a:pt x="85" y="237"/>
                  </a:lnTo>
                  <a:lnTo>
                    <a:pt x="75" y="247"/>
                  </a:lnTo>
                  <a:lnTo>
                    <a:pt x="66" y="256"/>
                  </a:lnTo>
                  <a:lnTo>
                    <a:pt x="58" y="265"/>
                  </a:lnTo>
                  <a:lnTo>
                    <a:pt x="50" y="275"/>
                  </a:lnTo>
                  <a:lnTo>
                    <a:pt x="43" y="284"/>
                  </a:lnTo>
                  <a:lnTo>
                    <a:pt x="35" y="294"/>
                  </a:lnTo>
                  <a:lnTo>
                    <a:pt x="29" y="303"/>
                  </a:lnTo>
                  <a:lnTo>
                    <a:pt x="23" y="312"/>
                  </a:lnTo>
                  <a:lnTo>
                    <a:pt x="20" y="322"/>
                  </a:lnTo>
                  <a:lnTo>
                    <a:pt x="14" y="331"/>
                  </a:lnTo>
                  <a:lnTo>
                    <a:pt x="10" y="342"/>
                  </a:lnTo>
                  <a:lnTo>
                    <a:pt x="8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8" y="453"/>
                  </a:lnTo>
                  <a:lnTo>
                    <a:pt x="10" y="465"/>
                  </a:lnTo>
                  <a:lnTo>
                    <a:pt x="14" y="474"/>
                  </a:lnTo>
                  <a:lnTo>
                    <a:pt x="20" y="483"/>
                  </a:lnTo>
                  <a:lnTo>
                    <a:pt x="23" y="493"/>
                  </a:lnTo>
                  <a:lnTo>
                    <a:pt x="29" y="502"/>
                  </a:lnTo>
                  <a:lnTo>
                    <a:pt x="35" y="512"/>
                  </a:lnTo>
                  <a:lnTo>
                    <a:pt x="43" y="523"/>
                  </a:lnTo>
                  <a:lnTo>
                    <a:pt x="50" y="532"/>
                  </a:lnTo>
                  <a:lnTo>
                    <a:pt x="58" y="540"/>
                  </a:lnTo>
                  <a:lnTo>
                    <a:pt x="66" y="549"/>
                  </a:lnTo>
                  <a:lnTo>
                    <a:pt x="75" y="559"/>
                  </a:lnTo>
                  <a:lnTo>
                    <a:pt x="85" y="568"/>
                  </a:lnTo>
                  <a:lnTo>
                    <a:pt x="94" y="577"/>
                  </a:lnTo>
                  <a:lnTo>
                    <a:pt x="104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3" y="626"/>
                  </a:lnTo>
                  <a:lnTo>
                    <a:pt x="190" y="643"/>
                  </a:lnTo>
                  <a:lnTo>
                    <a:pt x="219" y="658"/>
                  </a:lnTo>
                  <a:lnTo>
                    <a:pt x="247" y="673"/>
                  </a:lnTo>
                  <a:lnTo>
                    <a:pt x="280" y="687"/>
                  </a:lnTo>
                  <a:lnTo>
                    <a:pt x="313" y="700"/>
                  </a:lnTo>
                  <a:lnTo>
                    <a:pt x="349" y="713"/>
                  </a:lnTo>
                  <a:lnTo>
                    <a:pt x="383" y="724"/>
                  </a:lnTo>
                  <a:lnTo>
                    <a:pt x="422" y="735"/>
                  </a:lnTo>
                  <a:lnTo>
                    <a:pt x="460" y="747"/>
                  </a:lnTo>
                  <a:lnTo>
                    <a:pt x="500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8" y="801"/>
                  </a:lnTo>
                  <a:lnTo>
                    <a:pt x="908" y="803"/>
                  </a:lnTo>
                  <a:lnTo>
                    <a:pt x="958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3" y="799"/>
                  </a:lnTo>
                  <a:lnTo>
                    <a:pt x="1149" y="796"/>
                  </a:lnTo>
                  <a:lnTo>
                    <a:pt x="1197" y="792"/>
                  </a:lnTo>
                  <a:lnTo>
                    <a:pt x="1241" y="786"/>
                  </a:lnTo>
                  <a:lnTo>
                    <a:pt x="1285" y="781"/>
                  </a:lnTo>
                  <a:lnTo>
                    <a:pt x="1329" y="773"/>
                  </a:lnTo>
                  <a:lnTo>
                    <a:pt x="1371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2" y="735"/>
                  </a:lnTo>
                  <a:lnTo>
                    <a:pt x="1530" y="724"/>
                  </a:lnTo>
                  <a:lnTo>
                    <a:pt x="1566" y="713"/>
                  </a:lnTo>
                  <a:lnTo>
                    <a:pt x="1601" y="700"/>
                  </a:lnTo>
                  <a:lnTo>
                    <a:pt x="1633" y="687"/>
                  </a:lnTo>
                  <a:lnTo>
                    <a:pt x="1666" y="673"/>
                  </a:lnTo>
                  <a:lnTo>
                    <a:pt x="1695" y="658"/>
                  </a:lnTo>
                  <a:lnTo>
                    <a:pt x="1723" y="643"/>
                  </a:lnTo>
                  <a:lnTo>
                    <a:pt x="1750" y="626"/>
                  </a:lnTo>
                  <a:lnTo>
                    <a:pt x="1775" y="611"/>
                  </a:lnTo>
                  <a:lnTo>
                    <a:pt x="1798" y="594"/>
                  </a:lnTo>
                  <a:lnTo>
                    <a:pt x="1809" y="585"/>
                  </a:lnTo>
                  <a:lnTo>
                    <a:pt x="1819" y="577"/>
                  </a:lnTo>
                  <a:lnTo>
                    <a:pt x="1829" y="568"/>
                  </a:lnTo>
                  <a:lnTo>
                    <a:pt x="1838" y="559"/>
                  </a:lnTo>
                  <a:lnTo>
                    <a:pt x="1848" y="549"/>
                  </a:lnTo>
                  <a:lnTo>
                    <a:pt x="1855" y="540"/>
                  </a:lnTo>
                  <a:lnTo>
                    <a:pt x="1863" y="532"/>
                  </a:lnTo>
                  <a:lnTo>
                    <a:pt x="1871" y="523"/>
                  </a:lnTo>
                  <a:lnTo>
                    <a:pt x="1878" y="512"/>
                  </a:lnTo>
                  <a:lnTo>
                    <a:pt x="1884" y="502"/>
                  </a:lnTo>
                  <a:lnTo>
                    <a:pt x="1890" y="493"/>
                  </a:lnTo>
                  <a:lnTo>
                    <a:pt x="1894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7" y="453"/>
                  </a:lnTo>
                  <a:lnTo>
                    <a:pt x="1909" y="444"/>
                  </a:lnTo>
                  <a:lnTo>
                    <a:pt x="1911" y="433"/>
                  </a:lnTo>
                  <a:lnTo>
                    <a:pt x="1913" y="423"/>
                  </a:lnTo>
                  <a:lnTo>
                    <a:pt x="1913" y="414"/>
                  </a:lnTo>
                  <a:lnTo>
                    <a:pt x="1915" y="403"/>
                  </a:lnTo>
                  <a:lnTo>
                    <a:pt x="1913" y="393"/>
                  </a:lnTo>
                  <a:lnTo>
                    <a:pt x="1913" y="382"/>
                  </a:lnTo>
                  <a:lnTo>
                    <a:pt x="1911" y="373"/>
                  </a:lnTo>
                  <a:lnTo>
                    <a:pt x="1909" y="361"/>
                  </a:lnTo>
                  <a:lnTo>
                    <a:pt x="1907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4" y="322"/>
                  </a:lnTo>
                  <a:lnTo>
                    <a:pt x="1890" y="312"/>
                  </a:lnTo>
                  <a:lnTo>
                    <a:pt x="1884" y="303"/>
                  </a:lnTo>
                  <a:lnTo>
                    <a:pt x="1878" y="294"/>
                  </a:lnTo>
                  <a:lnTo>
                    <a:pt x="1871" y="284"/>
                  </a:lnTo>
                  <a:lnTo>
                    <a:pt x="1863" y="275"/>
                  </a:lnTo>
                  <a:lnTo>
                    <a:pt x="1855" y="265"/>
                  </a:lnTo>
                  <a:lnTo>
                    <a:pt x="1848" y="256"/>
                  </a:lnTo>
                  <a:lnTo>
                    <a:pt x="1838" y="247"/>
                  </a:lnTo>
                  <a:lnTo>
                    <a:pt x="1829" y="237"/>
                  </a:lnTo>
                  <a:lnTo>
                    <a:pt x="1819" y="230"/>
                  </a:lnTo>
                  <a:lnTo>
                    <a:pt x="1809" y="220"/>
                  </a:lnTo>
                  <a:lnTo>
                    <a:pt x="1798" y="211"/>
                  </a:lnTo>
                  <a:lnTo>
                    <a:pt x="1775" y="194"/>
                  </a:lnTo>
                  <a:lnTo>
                    <a:pt x="1750" y="179"/>
                  </a:lnTo>
                  <a:lnTo>
                    <a:pt x="1723" y="162"/>
                  </a:lnTo>
                  <a:lnTo>
                    <a:pt x="1695" y="147"/>
                  </a:lnTo>
                  <a:lnTo>
                    <a:pt x="1666" y="134"/>
                  </a:lnTo>
                  <a:lnTo>
                    <a:pt x="1633" y="119"/>
                  </a:lnTo>
                  <a:lnTo>
                    <a:pt x="1601" y="106"/>
                  </a:lnTo>
                  <a:lnTo>
                    <a:pt x="1566" y="92"/>
                  </a:lnTo>
                  <a:lnTo>
                    <a:pt x="1530" y="81"/>
                  </a:lnTo>
                  <a:lnTo>
                    <a:pt x="1492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1" y="42"/>
                  </a:lnTo>
                  <a:lnTo>
                    <a:pt x="1329" y="32"/>
                  </a:lnTo>
                  <a:lnTo>
                    <a:pt x="1285" y="25"/>
                  </a:lnTo>
                  <a:lnTo>
                    <a:pt x="1241" y="19"/>
                  </a:lnTo>
                  <a:lnTo>
                    <a:pt x="1195" y="13"/>
                  </a:lnTo>
                  <a:lnTo>
                    <a:pt x="1149" y="10"/>
                  </a:lnTo>
                  <a:lnTo>
                    <a:pt x="1103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6" y="0"/>
                  </a:lnTo>
                  <a:lnTo>
                    <a:pt x="958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26080" y="1644480"/>
              <a:ext cx="1519200" cy="638280"/>
            </a:xfrm>
            <a:custGeom>
              <a:avLst/>
              <a:gdLst/>
              <a:ahLst/>
              <a:rect l="l" t="t" r="r" b="b"/>
              <a:pathLst>
                <a:path w="1915" h="803">
                  <a:moveTo>
                    <a:pt x="958" y="2"/>
                  </a:moveTo>
                  <a:lnTo>
                    <a:pt x="908" y="2"/>
                  </a:lnTo>
                  <a:lnTo>
                    <a:pt x="858" y="4"/>
                  </a:lnTo>
                  <a:lnTo>
                    <a:pt x="810" y="6"/>
                  </a:lnTo>
                  <a:lnTo>
                    <a:pt x="764" y="10"/>
                  </a:lnTo>
                  <a:lnTo>
                    <a:pt x="718" y="13"/>
                  </a:lnTo>
                  <a:lnTo>
                    <a:pt x="672" y="19"/>
                  </a:lnTo>
                  <a:lnTo>
                    <a:pt x="628" y="25"/>
                  </a:lnTo>
                  <a:lnTo>
                    <a:pt x="584" y="32"/>
                  </a:lnTo>
                  <a:lnTo>
                    <a:pt x="542" y="42"/>
                  </a:lnTo>
                  <a:lnTo>
                    <a:pt x="500" y="49"/>
                  </a:lnTo>
                  <a:lnTo>
                    <a:pt x="460" y="59"/>
                  </a:lnTo>
                  <a:lnTo>
                    <a:pt x="422" y="70"/>
                  </a:lnTo>
                  <a:lnTo>
                    <a:pt x="383" y="81"/>
                  </a:lnTo>
                  <a:lnTo>
                    <a:pt x="349" y="92"/>
                  </a:lnTo>
                  <a:lnTo>
                    <a:pt x="313" y="106"/>
                  </a:lnTo>
                  <a:lnTo>
                    <a:pt x="280" y="119"/>
                  </a:lnTo>
                  <a:lnTo>
                    <a:pt x="247" y="134"/>
                  </a:lnTo>
                  <a:lnTo>
                    <a:pt x="219" y="147"/>
                  </a:lnTo>
                  <a:lnTo>
                    <a:pt x="190" y="162"/>
                  </a:lnTo>
                  <a:lnTo>
                    <a:pt x="163" y="179"/>
                  </a:lnTo>
                  <a:lnTo>
                    <a:pt x="138" y="194"/>
                  </a:lnTo>
                  <a:lnTo>
                    <a:pt x="115" y="211"/>
                  </a:lnTo>
                  <a:lnTo>
                    <a:pt x="104" y="220"/>
                  </a:lnTo>
                  <a:lnTo>
                    <a:pt x="94" y="230"/>
                  </a:lnTo>
                  <a:lnTo>
                    <a:pt x="85" y="237"/>
                  </a:lnTo>
                  <a:lnTo>
                    <a:pt x="75" y="247"/>
                  </a:lnTo>
                  <a:lnTo>
                    <a:pt x="66" y="256"/>
                  </a:lnTo>
                  <a:lnTo>
                    <a:pt x="58" y="265"/>
                  </a:lnTo>
                  <a:lnTo>
                    <a:pt x="50" y="275"/>
                  </a:lnTo>
                  <a:lnTo>
                    <a:pt x="43" y="284"/>
                  </a:lnTo>
                  <a:lnTo>
                    <a:pt x="35" y="294"/>
                  </a:lnTo>
                  <a:lnTo>
                    <a:pt x="29" y="303"/>
                  </a:lnTo>
                  <a:lnTo>
                    <a:pt x="23" y="312"/>
                  </a:lnTo>
                  <a:lnTo>
                    <a:pt x="20" y="322"/>
                  </a:lnTo>
                  <a:lnTo>
                    <a:pt x="14" y="331"/>
                  </a:lnTo>
                  <a:lnTo>
                    <a:pt x="10" y="342"/>
                  </a:lnTo>
                  <a:lnTo>
                    <a:pt x="8" y="352"/>
                  </a:lnTo>
                  <a:lnTo>
                    <a:pt x="4" y="361"/>
                  </a:lnTo>
                  <a:lnTo>
                    <a:pt x="2" y="373"/>
                  </a:lnTo>
                  <a:lnTo>
                    <a:pt x="0" y="382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2" y="433"/>
                  </a:lnTo>
                  <a:lnTo>
                    <a:pt x="4" y="444"/>
                  </a:lnTo>
                  <a:lnTo>
                    <a:pt x="8" y="453"/>
                  </a:lnTo>
                  <a:lnTo>
                    <a:pt x="10" y="465"/>
                  </a:lnTo>
                  <a:lnTo>
                    <a:pt x="14" y="474"/>
                  </a:lnTo>
                  <a:lnTo>
                    <a:pt x="20" y="483"/>
                  </a:lnTo>
                  <a:lnTo>
                    <a:pt x="23" y="493"/>
                  </a:lnTo>
                  <a:lnTo>
                    <a:pt x="29" y="502"/>
                  </a:lnTo>
                  <a:lnTo>
                    <a:pt x="35" y="512"/>
                  </a:lnTo>
                  <a:lnTo>
                    <a:pt x="43" y="523"/>
                  </a:lnTo>
                  <a:lnTo>
                    <a:pt x="50" y="532"/>
                  </a:lnTo>
                  <a:lnTo>
                    <a:pt x="58" y="540"/>
                  </a:lnTo>
                  <a:lnTo>
                    <a:pt x="66" y="549"/>
                  </a:lnTo>
                  <a:lnTo>
                    <a:pt x="75" y="559"/>
                  </a:lnTo>
                  <a:lnTo>
                    <a:pt x="85" y="568"/>
                  </a:lnTo>
                  <a:lnTo>
                    <a:pt x="94" y="577"/>
                  </a:lnTo>
                  <a:lnTo>
                    <a:pt x="104" y="585"/>
                  </a:lnTo>
                  <a:lnTo>
                    <a:pt x="115" y="594"/>
                  </a:lnTo>
                  <a:lnTo>
                    <a:pt x="138" y="611"/>
                  </a:lnTo>
                  <a:lnTo>
                    <a:pt x="163" y="626"/>
                  </a:lnTo>
                  <a:lnTo>
                    <a:pt x="190" y="643"/>
                  </a:lnTo>
                  <a:lnTo>
                    <a:pt x="219" y="658"/>
                  </a:lnTo>
                  <a:lnTo>
                    <a:pt x="247" y="673"/>
                  </a:lnTo>
                  <a:lnTo>
                    <a:pt x="280" y="687"/>
                  </a:lnTo>
                  <a:lnTo>
                    <a:pt x="313" y="700"/>
                  </a:lnTo>
                  <a:lnTo>
                    <a:pt x="349" y="713"/>
                  </a:lnTo>
                  <a:lnTo>
                    <a:pt x="383" y="724"/>
                  </a:lnTo>
                  <a:lnTo>
                    <a:pt x="422" y="735"/>
                  </a:lnTo>
                  <a:lnTo>
                    <a:pt x="460" y="747"/>
                  </a:lnTo>
                  <a:lnTo>
                    <a:pt x="500" y="756"/>
                  </a:lnTo>
                  <a:lnTo>
                    <a:pt x="542" y="764"/>
                  </a:lnTo>
                  <a:lnTo>
                    <a:pt x="584" y="773"/>
                  </a:lnTo>
                  <a:lnTo>
                    <a:pt x="628" y="781"/>
                  </a:lnTo>
                  <a:lnTo>
                    <a:pt x="672" y="786"/>
                  </a:lnTo>
                  <a:lnTo>
                    <a:pt x="718" y="792"/>
                  </a:lnTo>
                  <a:lnTo>
                    <a:pt x="764" y="796"/>
                  </a:lnTo>
                  <a:lnTo>
                    <a:pt x="810" y="799"/>
                  </a:lnTo>
                  <a:lnTo>
                    <a:pt x="858" y="801"/>
                  </a:lnTo>
                  <a:lnTo>
                    <a:pt x="908" y="803"/>
                  </a:lnTo>
                  <a:lnTo>
                    <a:pt x="958" y="803"/>
                  </a:lnTo>
                  <a:lnTo>
                    <a:pt x="1005" y="803"/>
                  </a:lnTo>
                  <a:lnTo>
                    <a:pt x="1055" y="801"/>
                  </a:lnTo>
                  <a:lnTo>
                    <a:pt x="1103" y="799"/>
                  </a:lnTo>
                  <a:lnTo>
                    <a:pt x="1149" y="796"/>
                  </a:lnTo>
                  <a:lnTo>
                    <a:pt x="1197" y="792"/>
                  </a:lnTo>
                  <a:lnTo>
                    <a:pt x="1241" y="786"/>
                  </a:lnTo>
                  <a:lnTo>
                    <a:pt x="1285" y="781"/>
                  </a:lnTo>
                  <a:lnTo>
                    <a:pt x="1329" y="773"/>
                  </a:lnTo>
                  <a:lnTo>
                    <a:pt x="1371" y="764"/>
                  </a:lnTo>
                  <a:lnTo>
                    <a:pt x="1413" y="756"/>
                  </a:lnTo>
                  <a:lnTo>
                    <a:pt x="1453" y="747"/>
                  </a:lnTo>
                  <a:lnTo>
                    <a:pt x="1492" y="735"/>
                  </a:lnTo>
                  <a:lnTo>
                    <a:pt x="1530" y="724"/>
                  </a:lnTo>
                  <a:lnTo>
                    <a:pt x="1566" y="713"/>
                  </a:lnTo>
                  <a:lnTo>
                    <a:pt x="1601" y="700"/>
                  </a:lnTo>
                  <a:lnTo>
                    <a:pt x="1633" y="687"/>
                  </a:lnTo>
                  <a:lnTo>
                    <a:pt x="1666" y="673"/>
                  </a:lnTo>
                  <a:lnTo>
                    <a:pt x="1695" y="658"/>
                  </a:lnTo>
                  <a:lnTo>
                    <a:pt x="1723" y="643"/>
                  </a:lnTo>
                  <a:lnTo>
                    <a:pt x="1750" y="626"/>
                  </a:lnTo>
                  <a:lnTo>
                    <a:pt x="1775" y="611"/>
                  </a:lnTo>
                  <a:lnTo>
                    <a:pt x="1798" y="594"/>
                  </a:lnTo>
                  <a:lnTo>
                    <a:pt x="1809" y="585"/>
                  </a:lnTo>
                  <a:lnTo>
                    <a:pt x="1819" y="577"/>
                  </a:lnTo>
                  <a:lnTo>
                    <a:pt x="1829" y="568"/>
                  </a:lnTo>
                  <a:lnTo>
                    <a:pt x="1838" y="559"/>
                  </a:lnTo>
                  <a:lnTo>
                    <a:pt x="1848" y="549"/>
                  </a:lnTo>
                  <a:lnTo>
                    <a:pt x="1855" y="540"/>
                  </a:lnTo>
                  <a:lnTo>
                    <a:pt x="1863" y="532"/>
                  </a:lnTo>
                  <a:lnTo>
                    <a:pt x="1871" y="523"/>
                  </a:lnTo>
                  <a:lnTo>
                    <a:pt x="1878" y="512"/>
                  </a:lnTo>
                  <a:lnTo>
                    <a:pt x="1884" y="502"/>
                  </a:lnTo>
                  <a:lnTo>
                    <a:pt x="1890" y="493"/>
                  </a:lnTo>
                  <a:lnTo>
                    <a:pt x="1894" y="483"/>
                  </a:lnTo>
                  <a:lnTo>
                    <a:pt x="1899" y="474"/>
                  </a:lnTo>
                  <a:lnTo>
                    <a:pt x="1903" y="465"/>
                  </a:lnTo>
                  <a:lnTo>
                    <a:pt x="1907" y="453"/>
                  </a:lnTo>
                  <a:lnTo>
                    <a:pt x="1909" y="444"/>
                  </a:lnTo>
                  <a:lnTo>
                    <a:pt x="1911" y="433"/>
                  </a:lnTo>
                  <a:lnTo>
                    <a:pt x="1913" y="423"/>
                  </a:lnTo>
                  <a:lnTo>
                    <a:pt x="1913" y="414"/>
                  </a:lnTo>
                  <a:lnTo>
                    <a:pt x="1915" y="403"/>
                  </a:lnTo>
                  <a:lnTo>
                    <a:pt x="1913" y="393"/>
                  </a:lnTo>
                  <a:lnTo>
                    <a:pt x="1913" y="382"/>
                  </a:lnTo>
                  <a:lnTo>
                    <a:pt x="1911" y="373"/>
                  </a:lnTo>
                  <a:lnTo>
                    <a:pt x="1909" y="361"/>
                  </a:lnTo>
                  <a:lnTo>
                    <a:pt x="1907" y="352"/>
                  </a:lnTo>
                  <a:lnTo>
                    <a:pt x="1903" y="342"/>
                  </a:lnTo>
                  <a:lnTo>
                    <a:pt x="1899" y="331"/>
                  </a:lnTo>
                  <a:lnTo>
                    <a:pt x="1894" y="322"/>
                  </a:lnTo>
                  <a:lnTo>
                    <a:pt x="1890" y="312"/>
                  </a:lnTo>
                  <a:lnTo>
                    <a:pt x="1884" y="303"/>
                  </a:lnTo>
                  <a:lnTo>
                    <a:pt x="1878" y="294"/>
                  </a:lnTo>
                  <a:lnTo>
                    <a:pt x="1871" y="284"/>
                  </a:lnTo>
                  <a:lnTo>
                    <a:pt x="1863" y="275"/>
                  </a:lnTo>
                  <a:lnTo>
                    <a:pt x="1855" y="265"/>
                  </a:lnTo>
                  <a:lnTo>
                    <a:pt x="1848" y="256"/>
                  </a:lnTo>
                  <a:lnTo>
                    <a:pt x="1838" y="247"/>
                  </a:lnTo>
                  <a:lnTo>
                    <a:pt x="1829" y="237"/>
                  </a:lnTo>
                  <a:lnTo>
                    <a:pt x="1819" y="230"/>
                  </a:lnTo>
                  <a:lnTo>
                    <a:pt x="1809" y="220"/>
                  </a:lnTo>
                  <a:lnTo>
                    <a:pt x="1798" y="211"/>
                  </a:lnTo>
                  <a:lnTo>
                    <a:pt x="1775" y="194"/>
                  </a:lnTo>
                  <a:lnTo>
                    <a:pt x="1750" y="179"/>
                  </a:lnTo>
                  <a:lnTo>
                    <a:pt x="1723" y="162"/>
                  </a:lnTo>
                  <a:lnTo>
                    <a:pt x="1695" y="147"/>
                  </a:lnTo>
                  <a:lnTo>
                    <a:pt x="1666" y="134"/>
                  </a:lnTo>
                  <a:lnTo>
                    <a:pt x="1633" y="119"/>
                  </a:lnTo>
                  <a:lnTo>
                    <a:pt x="1601" y="106"/>
                  </a:lnTo>
                  <a:lnTo>
                    <a:pt x="1566" y="92"/>
                  </a:lnTo>
                  <a:lnTo>
                    <a:pt x="1530" y="81"/>
                  </a:lnTo>
                  <a:lnTo>
                    <a:pt x="1492" y="70"/>
                  </a:lnTo>
                  <a:lnTo>
                    <a:pt x="1453" y="59"/>
                  </a:lnTo>
                  <a:lnTo>
                    <a:pt x="1413" y="49"/>
                  </a:lnTo>
                  <a:lnTo>
                    <a:pt x="1371" y="42"/>
                  </a:lnTo>
                  <a:lnTo>
                    <a:pt x="1329" y="32"/>
                  </a:lnTo>
                  <a:lnTo>
                    <a:pt x="1285" y="25"/>
                  </a:lnTo>
                  <a:lnTo>
                    <a:pt x="1241" y="19"/>
                  </a:lnTo>
                  <a:lnTo>
                    <a:pt x="1195" y="13"/>
                  </a:lnTo>
                  <a:lnTo>
                    <a:pt x="1149" y="10"/>
                  </a:lnTo>
                  <a:lnTo>
                    <a:pt x="1103" y="6"/>
                  </a:lnTo>
                  <a:lnTo>
                    <a:pt x="1055" y="2"/>
                  </a:lnTo>
                  <a:lnTo>
                    <a:pt x="1005" y="2"/>
                  </a:lnTo>
                  <a:lnTo>
                    <a:pt x="9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35320" y="17622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7880" y="176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17622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87520" y="197172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008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9840" y="19717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65520" y="118908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Commun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87800" y="13539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3000" y="152244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2160" y="1087560"/>
              <a:ext cx="182232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7" y="2"/>
                  </a:moveTo>
                  <a:lnTo>
                    <a:pt x="1087" y="2"/>
                  </a:lnTo>
                  <a:lnTo>
                    <a:pt x="1030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1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6" y="149"/>
                  </a:lnTo>
                  <a:lnTo>
                    <a:pt x="297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8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5" y="229"/>
                  </a:lnTo>
                  <a:lnTo>
                    <a:pt x="151" y="241"/>
                  </a:lnTo>
                  <a:lnTo>
                    <a:pt x="138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50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9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5"/>
                  </a:lnTo>
                  <a:lnTo>
                    <a:pt x="6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6" y="525"/>
                  </a:lnTo>
                  <a:lnTo>
                    <a:pt x="8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9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50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1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8" y="703"/>
                  </a:lnTo>
                  <a:lnTo>
                    <a:pt x="151" y="713"/>
                  </a:lnTo>
                  <a:lnTo>
                    <a:pt x="165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8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7" y="795"/>
                  </a:lnTo>
                  <a:lnTo>
                    <a:pt x="316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1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30" y="948"/>
                  </a:lnTo>
                  <a:lnTo>
                    <a:pt x="1087" y="949"/>
                  </a:lnTo>
                  <a:lnTo>
                    <a:pt x="1147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1" y="946"/>
                  </a:lnTo>
                  <a:lnTo>
                    <a:pt x="1378" y="942"/>
                  </a:lnTo>
                  <a:lnTo>
                    <a:pt x="1434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3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4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4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3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9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9" y="692"/>
                  </a:lnTo>
                  <a:lnTo>
                    <a:pt x="2180" y="682"/>
                  </a:lnTo>
                  <a:lnTo>
                    <a:pt x="2194" y="671"/>
                  </a:lnTo>
                  <a:lnTo>
                    <a:pt x="2203" y="662"/>
                  </a:lnTo>
                  <a:lnTo>
                    <a:pt x="2215" y="651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9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2" y="549"/>
                  </a:lnTo>
                  <a:lnTo>
                    <a:pt x="2286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6" y="415"/>
                  </a:lnTo>
                  <a:lnTo>
                    <a:pt x="2282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9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5" y="303"/>
                  </a:lnTo>
                  <a:lnTo>
                    <a:pt x="2203" y="291"/>
                  </a:lnTo>
                  <a:lnTo>
                    <a:pt x="2194" y="280"/>
                  </a:lnTo>
                  <a:lnTo>
                    <a:pt x="2180" y="271"/>
                  </a:lnTo>
                  <a:lnTo>
                    <a:pt x="2169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9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3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4" y="165"/>
                  </a:lnTo>
                  <a:lnTo>
                    <a:pt x="1996" y="156"/>
                  </a:lnTo>
                  <a:lnTo>
                    <a:pt x="1977" y="149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4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3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4" y="15"/>
                  </a:lnTo>
                  <a:lnTo>
                    <a:pt x="1378" y="11"/>
                  </a:lnTo>
                  <a:lnTo>
                    <a:pt x="1321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7" y="0"/>
                  </a:lnTo>
                  <a:lnTo>
                    <a:pt x="1147" y="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8480" y="1012680"/>
              <a:ext cx="182088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6" y="2"/>
                  </a:moveTo>
                  <a:lnTo>
                    <a:pt x="1087" y="2"/>
                  </a:lnTo>
                  <a:lnTo>
                    <a:pt x="1029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0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5" y="148"/>
                  </a:lnTo>
                  <a:lnTo>
                    <a:pt x="296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7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4" y="229"/>
                  </a:lnTo>
                  <a:lnTo>
                    <a:pt x="151" y="241"/>
                  </a:lnTo>
                  <a:lnTo>
                    <a:pt x="137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49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8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7" y="415"/>
                  </a:lnTo>
                  <a:lnTo>
                    <a:pt x="5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5" y="525"/>
                  </a:lnTo>
                  <a:lnTo>
                    <a:pt x="7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8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49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0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7" y="703"/>
                  </a:lnTo>
                  <a:lnTo>
                    <a:pt x="151" y="713"/>
                  </a:lnTo>
                  <a:lnTo>
                    <a:pt x="164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7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6" y="795"/>
                  </a:lnTo>
                  <a:lnTo>
                    <a:pt x="315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0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29" y="948"/>
                  </a:lnTo>
                  <a:lnTo>
                    <a:pt x="1087" y="949"/>
                  </a:lnTo>
                  <a:lnTo>
                    <a:pt x="1146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0" y="946"/>
                  </a:lnTo>
                  <a:lnTo>
                    <a:pt x="1378" y="942"/>
                  </a:lnTo>
                  <a:lnTo>
                    <a:pt x="1433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2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3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3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2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8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8" y="692"/>
                  </a:lnTo>
                  <a:lnTo>
                    <a:pt x="2180" y="682"/>
                  </a:lnTo>
                  <a:lnTo>
                    <a:pt x="2193" y="671"/>
                  </a:lnTo>
                  <a:lnTo>
                    <a:pt x="2203" y="662"/>
                  </a:lnTo>
                  <a:lnTo>
                    <a:pt x="2214" y="650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8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1" y="549"/>
                  </a:lnTo>
                  <a:lnTo>
                    <a:pt x="2285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5" y="415"/>
                  </a:lnTo>
                  <a:lnTo>
                    <a:pt x="2281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8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4" y="303"/>
                  </a:lnTo>
                  <a:lnTo>
                    <a:pt x="2203" y="291"/>
                  </a:lnTo>
                  <a:lnTo>
                    <a:pt x="2193" y="280"/>
                  </a:lnTo>
                  <a:lnTo>
                    <a:pt x="2180" y="271"/>
                  </a:lnTo>
                  <a:lnTo>
                    <a:pt x="2168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8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2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3" y="165"/>
                  </a:lnTo>
                  <a:lnTo>
                    <a:pt x="1996" y="156"/>
                  </a:lnTo>
                  <a:lnTo>
                    <a:pt x="1977" y="148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3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2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3" y="15"/>
                  </a:lnTo>
                  <a:lnTo>
                    <a:pt x="1378" y="11"/>
                  </a:lnTo>
                  <a:lnTo>
                    <a:pt x="1320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6" y="0"/>
                  </a:lnTo>
                  <a:lnTo>
                    <a:pt x="1146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18480" y="1012680"/>
              <a:ext cx="1820880" cy="755640"/>
            </a:xfrm>
            <a:custGeom>
              <a:avLst/>
              <a:gdLst/>
              <a:ahLst/>
              <a:rect l="l" t="t" r="r" b="b"/>
              <a:pathLst>
                <a:path w="2295" h="951">
                  <a:moveTo>
                    <a:pt x="1146" y="2"/>
                  </a:moveTo>
                  <a:lnTo>
                    <a:pt x="1087" y="2"/>
                  </a:lnTo>
                  <a:lnTo>
                    <a:pt x="1029" y="4"/>
                  </a:lnTo>
                  <a:lnTo>
                    <a:pt x="972" y="6"/>
                  </a:lnTo>
                  <a:lnTo>
                    <a:pt x="915" y="11"/>
                  </a:lnTo>
                  <a:lnTo>
                    <a:pt x="859" y="15"/>
                  </a:lnTo>
                  <a:lnTo>
                    <a:pt x="806" y="23"/>
                  </a:lnTo>
                  <a:lnTo>
                    <a:pt x="752" y="30"/>
                  </a:lnTo>
                  <a:lnTo>
                    <a:pt x="700" y="38"/>
                  </a:lnTo>
                  <a:lnTo>
                    <a:pt x="649" y="47"/>
                  </a:lnTo>
                  <a:lnTo>
                    <a:pt x="599" y="58"/>
                  </a:lnTo>
                  <a:lnTo>
                    <a:pt x="551" y="70"/>
                  </a:lnTo>
                  <a:lnTo>
                    <a:pt x="505" y="83"/>
                  </a:lnTo>
                  <a:lnTo>
                    <a:pt x="459" y="96"/>
                  </a:lnTo>
                  <a:lnTo>
                    <a:pt x="417" y="109"/>
                  </a:lnTo>
                  <a:lnTo>
                    <a:pt x="375" y="124"/>
                  </a:lnTo>
                  <a:lnTo>
                    <a:pt x="335" y="141"/>
                  </a:lnTo>
                  <a:lnTo>
                    <a:pt x="315" y="148"/>
                  </a:lnTo>
                  <a:lnTo>
                    <a:pt x="296" y="156"/>
                  </a:lnTo>
                  <a:lnTo>
                    <a:pt x="279" y="165"/>
                  </a:lnTo>
                  <a:lnTo>
                    <a:pt x="260" y="175"/>
                  </a:lnTo>
                  <a:lnTo>
                    <a:pt x="243" y="182"/>
                  </a:lnTo>
                  <a:lnTo>
                    <a:pt x="227" y="192"/>
                  </a:lnTo>
                  <a:lnTo>
                    <a:pt x="210" y="201"/>
                  </a:lnTo>
                  <a:lnTo>
                    <a:pt x="195" y="211"/>
                  </a:lnTo>
                  <a:lnTo>
                    <a:pt x="180" y="220"/>
                  </a:lnTo>
                  <a:lnTo>
                    <a:pt x="164" y="229"/>
                  </a:lnTo>
                  <a:lnTo>
                    <a:pt x="151" y="241"/>
                  </a:lnTo>
                  <a:lnTo>
                    <a:pt x="137" y="250"/>
                  </a:lnTo>
                  <a:lnTo>
                    <a:pt x="124" y="259"/>
                  </a:lnTo>
                  <a:lnTo>
                    <a:pt x="113" y="271"/>
                  </a:lnTo>
                  <a:lnTo>
                    <a:pt x="99" y="280"/>
                  </a:lnTo>
                  <a:lnTo>
                    <a:pt x="90" y="291"/>
                  </a:lnTo>
                  <a:lnTo>
                    <a:pt x="78" y="303"/>
                  </a:lnTo>
                  <a:lnTo>
                    <a:pt x="69" y="312"/>
                  </a:lnTo>
                  <a:lnTo>
                    <a:pt x="59" y="323"/>
                  </a:lnTo>
                  <a:lnTo>
                    <a:pt x="49" y="335"/>
                  </a:lnTo>
                  <a:lnTo>
                    <a:pt x="42" y="346"/>
                  </a:lnTo>
                  <a:lnTo>
                    <a:pt x="34" y="357"/>
                  </a:lnTo>
                  <a:lnTo>
                    <a:pt x="28" y="368"/>
                  </a:lnTo>
                  <a:lnTo>
                    <a:pt x="23" y="380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7" y="415"/>
                  </a:lnTo>
                  <a:lnTo>
                    <a:pt x="5" y="427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500"/>
                  </a:lnTo>
                  <a:lnTo>
                    <a:pt x="2" y="513"/>
                  </a:lnTo>
                  <a:lnTo>
                    <a:pt x="5" y="525"/>
                  </a:lnTo>
                  <a:lnTo>
                    <a:pt x="7" y="536"/>
                  </a:lnTo>
                  <a:lnTo>
                    <a:pt x="11" y="549"/>
                  </a:lnTo>
                  <a:lnTo>
                    <a:pt x="17" y="560"/>
                  </a:lnTo>
                  <a:lnTo>
                    <a:pt x="23" y="572"/>
                  </a:lnTo>
                  <a:lnTo>
                    <a:pt x="28" y="583"/>
                  </a:lnTo>
                  <a:lnTo>
                    <a:pt x="34" y="594"/>
                  </a:lnTo>
                  <a:lnTo>
                    <a:pt x="42" y="605"/>
                  </a:lnTo>
                  <a:lnTo>
                    <a:pt x="49" y="617"/>
                  </a:lnTo>
                  <a:lnTo>
                    <a:pt x="59" y="628"/>
                  </a:lnTo>
                  <a:lnTo>
                    <a:pt x="69" y="639"/>
                  </a:lnTo>
                  <a:lnTo>
                    <a:pt x="78" y="650"/>
                  </a:lnTo>
                  <a:lnTo>
                    <a:pt x="90" y="662"/>
                  </a:lnTo>
                  <a:lnTo>
                    <a:pt x="99" y="671"/>
                  </a:lnTo>
                  <a:lnTo>
                    <a:pt x="113" y="682"/>
                  </a:lnTo>
                  <a:lnTo>
                    <a:pt x="124" y="692"/>
                  </a:lnTo>
                  <a:lnTo>
                    <a:pt x="137" y="703"/>
                  </a:lnTo>
                  <a:lnTo>
                    <a:pt x="151" y="713"/>
                  </a:lnTo>
                  <a:lnTo>
                    <a:pt x="164" y="722"/>
                  </a:lnTo>
                  <a:lnTo>
                    <a:pt x="180" y="731"/>
                  </a:lnTo>
                  <a:lnTo>
                    <a:pt x="195" y="741"/>
                  </a:lnTo>
                  <a:lnTo>
                    <a:pt x="210" y="750"/>
                  </a:lnTo>
                  <a:lnTo>
                    <a:pt x="227" y="760"/>
                  </a:lnTo>
                  <a:lnTo>
                    <a:pt x="243" y="769"/>
                  </a:lnTo>
                  <a:lnTo>
                    <a:pt x="260" y="778"/>
                  </a:lnTo>
                  <a:lnTo>
                    <a:pt x="279" y="788"/>
                  </a:lnTo>
                  <a:lnTo>
                    <a:pt x="296" y="795"/>
                  </a:lnTo>
                  <a:lnTo>
                    <a:pt x="315" y="803"/>
                  </a:lnTo>
                  <a:lnTo>
                    <a:pt x="335" y="812"/>
                  </a:lnTo>
                  <a:lnTo>
                    <a:pt x="375" y="827"/>
                  </a:lnTo>
                  <a:lnTo>
                    <a:pt x="417" y="842"/>
                  </a:lnTo>
                  <a:lnTo>
                    <a:pt x="459" y="857"/>
                  </a:lnTo>
                  <a:lnTo>
                    <a:pt x="505" y="870"/>
                  </a:lnTo>
                  <a:lnTo>
                    <a:pt x="551" y="882"/>
                  </a:lnTo>
                  <a:lnTo>
                    <a:pt x="599" y="893"/>
                  </a:lnTo>
                  <a:lnTo>
                    <a:pt x="649" y="904"/>
                  </a:lnTo>
                  <a:lnTo>
                    <a:pt x="700" y="914"/>
                  </a:lnTo>
                  <a:lnTo>
                    <a:pt x="752" y="921"/>
                  </a:lnTo>
                  <a:lnTo>
                    <a:pt x="806" y="929"/>
                  </a:lnTo>
                  <a:lnTo>
                    <a:pt x="859" y="936"/>
                  </a:lnTo>
                  <a:lnTo>
                    <a:pt x="915" y="942"/>
                  </a:lnTo>
                  <a:lnTo>
                    <a:pt x="972" y="946"/>
                  </a:lnTo>
                  <a:lnTo>
                    <a:pt x="1029" y="948"/>
                  </a:lnTo>
                  <a:lnTo>
                    <a:pt x="1087" y="949"/>
                  </a:lnTo>
                  <a:lnTo>
                    <a:pt x="1146" y="951"/>
                  </a:lnTo>
                  <a:lnTo>
                    <a:pt x="1206" y="949"/>
                  </a:lnTo>
                  <a:lnTo>
                    <a:pt x="1263" y="948"/>
                  </a:lnTo>
                  <a:lnTo>
                    <a:pt x="1320" y="946"/>
                  </a:lnTo>
                  <a:lnTo>
                    <a:pt x="1378" y="942"/>
                  </a:lnTo>
                  <a:lnTo>
                    <a:pt x="1433" y="936"/>
                  </a:lnTo>
                  <a:lnTo>
                    <a:pt x="1487" y="929"/>
                  </a:lnTo>
                  <a:lnTo>
                    <a:pt x="1541" y="921"/>
                  </a:lnTo>
                  <a:lnTo>
                    <a:pt x="1592" y="914"/>
                  </a:lnTo>
                  <a:lnTo>
                    <a:pt x="1644" y="904"/>
                  </a:lnTo>
                  <a:lnTo>
                    <a:pt x="1694" y="893"/>
                  </a:lnTo>
                  <a:lnTo>
                    <a:pt x="1742" y="882"/>
                  </a:lnTo>
                  <a:lnTo>
                    <a:pt x="1788" y="870"/>
                  </a:lnTo>
                  <a:lnTo>
                    <a:pt x="1833" y="857"/>
                  </a:lnTo>
                  <a:lnTo>
                    <a:pt x="1876" y="842"/>
                  </a:lnTo>
                  <a:lnTo>
                    <a:pt x="1918" y="827"/>
                  </a:lnTo>
                  <a:lnTo>
                    <a:pt x="1958" y="812"/>
                  </a:lnTo>
                  <a:lnTo>
                    <a:pt x="1977" y="803"/>
                  </a:lnTo>
                  <a:lnTo>
                    <a:pt x="1996" y="795"/>
                  </a:lnTo>
                  <a:lnTo>
                    <a:pt x="2013" y="788"/>
                  </a:lnTo>
                  <a:lnTo>
                    <a:pt x="2033" y="778"/>
                  </a:lnTo>
                  <a:lnTo>
                    <a:pt x="2050" y="769"/>
                  </a:lnTo>
                  <a:lnTo>
                    <a:pt x="2065" y="760"/>
                  </a:lnTo>
                  <a:lnTo>
                    <a:pt x="2082" y="750"/>
                  </a:lnTo>
                  <a:lnTo>
                    <a:pt x="2098" y="741"/>
                  </a:lnTo>
                  <a:lnTo>
                    <a:pt x="2113" y="731"/>
                  </a:lnTo>
                  <a:lnTo>
                    <a:pt x="2128" y="722"/>
                  </a:lnTo>
                  <a:lnTo>
                    <a:pt x="2142" y="713"/>
                  </a:lnTo>
                  <a:lnTo>
                    <a:pt x="2155" y="703"/>
                  </a:lnTo>
                  <a:lnTo>
                    <a:pt x="2168" y="692"/>
                  </a:lnTo>
                  <a:lnTo>
                    <a:pt x="2180" y="682"/>
                  </a:lnTo>
                  <a:lnTo>
                    <a:pt x="2193" y="671"/>
                  </a:lnTo>
                  <a:lnTo>
                    <a:pt x="2203" y="662"/>
                  </a:lnTo>
                  <a:lnTo>
                    <a:pt x="2214" y="650"/>
                  </a:lnTo>
                  <a:lnTo>
                    <a:pt x="2224" y="639"/>
                  </a:lnTo>
                  <a:lnTo>
                    <a:pt x="2234" y="628"/>
                  </a:lnTo>
                  <a:lnTo>
                    <a:pt x="2243" y="617"/>
                  </a:lnTo>
                  <a:lnTo>
                    <a:pt x="2251" y="605"/>
                  </a:lnTo>
                  <a:lnTo>
                    <a:pt x="2258" y="594"/>
                  </a:lnTo>
                  <a:lnTo>
                    <a:pt x="2264" y="583"/>
                  </a:lnTo>
                  <a:lnTo>
                    <a:pt x="2270" y="572"/>
                  </a:lnTo>
                  <a:lnTo>
                    <a:pt x="2276" y="560"/>
                  </a:lnTo>
                  <a:lnTo>
                    <a:pt x="2281" y="549"/>
                  </a:lnTo>
                  <a:lnTo>
                    <a:pt x="2285" y="536"/>
                  </a:lnTo>
                  <a:lnTo>
                    <a:pt x="2287" y="525"/>
                  </a:lnTo>
                  <a:lnTo>
                    <a:pt x="2291" y="513"/>
                  </a:lnTo>
                  <a:lnTo>
                    <a:pt x="2293" y="500"/>
                  </a:lnTo>
                  <a:lnTo>
                    <a:pt x="2293" y="489"/>
                  </a:lnTo>
                  <a:lnTo>
                    <a:pt x="2295" y="476"/>
                  </a:lnTo>
                  <a:lnTo>
                    <a:pt x="2293" y="464"/>
                  </a:lnTo>
                  <a:lnTo>
                    <a:pt x="2293" y="451"/>
                  </a:lnTo>
                  <a:lnTo>
                    <a:pt x="2291" y="440"/>
                  </a:lnTo>
                  <a:lnTo>
                    <a:pt x="2287" y="427"/>
                  </a:lnTo>
                  <a:lnTo>
                    <a:pt x="2285" y="415"/>
                  </a:lnTo>
                  <a:lnTo>
                    <a:pt x="2281" y="404"/>
                  </a:lnTo>
                  <a:lnTo>
                    <a:pt x="2276" y="393"/>
                  </a:lnTo>
                  <a:lnTo>
                    <a:pt x="2270" y="380"/>
                  </a:lnTo>
                  <a:lnTo>
                    <a:pt x="2264" y="368"/>
                  </a:lnTo>
                  <a:lnTo>
                    <a:pt x="2258" y="357"/>
                  </a:lnTo>
                  <a:lnTo>
                    <a:pt x="2251" y="346"/>
                  </a:lnTo>
                  <a:lnTo>
                    <a:pt x="2243" y="335"/>
                  </a:lnTo>
                  <a:lnTo>
                    <a:pt x="2234" y="323"/>
                  </a:lnTo>
                  <a:lnTo>
                    <a:pt x="2224" y="312"/>
                  </a:lnTo>
                  <a:lnTo>
                    <a:pt x="2214" y="303"/>
                  </a:lnTo>
                  <a:lnTo>
                    <a:pt x="2203" y="291"/>
                  </a:lnTo>
                  <a:lnTo>
                    <a:pt x="2193" y="280"/>
                  </a:lnTo>
                  <a:lnTo>
                    <a:pt x="2180" y="271"/>
                  </a:lnTo>
                  <a:lnTo>
                    <a:pt x="2168" y="259"/>
                  </a:lnTo>
                  <a:lnTo>
                    <a:pt x="2155" y="250"/>
                  </a:lnTo>
                  <a:lnTo>
                    <a:pt x="2142" y="239"/>
                  </a:lnTo>
                  <a:lnTo>
                    <a:pt x="2128" y="229"/>
                  </a:lnTo>
                  <a:lnTo>
                    <a:pt x="2113" y="220"/>
                  </a:lnTo>
                  <a:lnTo>
                    <a:pt x="2098" y="211"/>
                  </a:lnTo>
                  <a:lnTo>
                    <a:pt x="2082" y="201"/>
                  </a:lnTo>
                  <a:lnTo>
                    <a:pt x="2065" y="192"/>
                  </a:lnTo>
                  <a:lnTo>
                    <a:pt x="2050" y="182"/>
                  </a:lnTo>
                  <a:lnTo>
                    <a:pt x="2033" y="175"/>
                  </a:lnTo>
                  <a:lnTo>
                    <a:pt x="2013" y="165"/>
                  </a:lnTo>
                  <a:lnTo>
                    <a:pt x="1996" y="156"/>
                  </a:lnTo>
                  <a:lnTo>
                    <a:pt x="1977" y="148"/>
                  </a:lnTo>
                  <a:lnTo>
                    <a:pt x="1958" y="141"/>
                  </a:lnTo>
                  <a:lnTo>
                    <a:pt x="1918" y="124"/>
                  </a:lnTo>
                  <a:lnTo>
                    <a:pt x="1876" y="109"/>
                  </a:lnTo>
                  <a:lnTo>
                    <a:pt x="1833" y="96"/>
                  </a:lnTo>
                  <a:lnTo>
                    <a:pt x="1788" y="83"/>
                  </a:lnTo>
                  <a:lnTo>
                    <a:pt x="1742" y="70"/>
                  </a:lnTo>
                  <a:lnTo>
                    <a:pt x="1694" y="58"/>
                  </a:lnTo>
                  <a:lnTo>
                    <a:pt x="1644" y="47"/>
                  </a:lnTo>
                  <a:lnTo>
                    <a:pt x="1592" y="38"/>
                  </a:lnTo>
                  <a:lnTo>
                    <a:pt x="1541" y="30"/>
                  </a:lnTo>
                  <a:lnTo>
                    <a:pt x="1487" y="23"/>
                  </a:lnTo>
                  <a:lnTo>
                    <a:pt x="1433" y="15"/>
                  </a:lnTo>
                  <a:lnTo>
                    <a:pt x="1378" y="11"/>
                  </a:lnTo>
                  <a:lnTo>
                    <a:pt x="1320" y="6"/>
                  </a:lnTo>
                  <a:lnTo>
                    <a:pt x="1263" y="4"/>
                  </a:lnTo>
                  <a:lnTo>
                    <a:pt x="1206" y="2"/>
                  </a:lnTo>
                  <a:lnTo>
                    <a:pt x="11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41840" y="111456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un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64120" y="12794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9320" y="144792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0000" y="23288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Si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3200" y="24955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2282760"/>
              <a:ext cx="987480" cy="480960"/>
            </a:xfrm>
            <a:custGeom>
              <a:avLst/>
              <a:gdLst/>
              <a:ahLst/>
              <a:rect l="l" t="t" r="r" b="b"/>
              <a:pathLst>
                <a:path w="1244" h="605">
                  <a:moveTo>
                    <a:pt x="622" y="0"/>
                  </a:moveTo>
                  <a:lnTo>
                    <a:pt x="589" y="0"/>
                  </a:lnTo>
                  <a:lnTo>
                    <a:pt x="557" y="0"/>
                  </a:lnTo>
                  <a:lnTo>
                    <a:pt x="526" y="2"/>
                  </a:lnTo>
                  <a:lnTo>
                    <a:pt x="496" y="6"/>
                  </a:lnTo>
                  <a:lnTo>
                    <a:pt x="465" y="9"/>
                  </a:lnTo>
                  <a:lnTo>
                    <a:pt x="436" y="13"/>
                  </a:lnTo>
                  <a:lnTo>
                    <a:pt x="407" y="17"/>
                  </a:lnTo>
                  <a:lnTo>
                    <a:pt x="379" y="23"/>
                  </a:lnTo>
                  <a:lnTo>
                    <a:pt x="352" y="28"/>
                  </a:lnTo>
                  <a:lnTo>
                    <a:pt x="325" y="36"/>
                  </a:lnTo>
                  <a:lnTo>
                    <a:pt x="298" y="43"/>
                  </a:lnTo>
                  <a:lnTo>
                    <a:pt x="273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1" y="109"/>
                  </a:lnTo>
                  <a:lnTo>
                    <a:pt x="122" y="120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8"/>
                  </a:lnTo>
                  <a:lnTo>
                    <a:pt x="61" y="171"/>
                  </a:lnTo>
                  <a:lnTo>
                    <a:pt x="48" y="184"/>
                  </a:lnTo>
                  <a:lnTo>
                    <a:pt x="36" y="199"/>
                  </a:lnTo>
                  <a:lnTo>
                    <a:pt x="27" y="212"/>
                  </a:lnTo>
                  <a:lnTo>
                    <a:pt x="19" y="227"/>
                  </a:lnTo>
                  <a:lnTo>
                    <a:pt x="11" y="241"/>
                  </a:lnTo>
                  <a:lnTo>
                    <a:pt x="5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5" y="350"/>
                  </a:lnTo>
                  <a:lnTo>
                    <a:pt x="11" y="365"/>
                  </a:lnTo>
                  <a:lnTo>
                    <a:pt x="19" y="378"/>
                  </a:lnTo>
                  <a:lnTo>
                    <a:pt x="27" y="393"/>
                  </a:lnTo>
                  <a:lnTo>
                    <a:pt x="36" y="408"/>
                  </a:lnTo>
                  <a:lnTo>
                    <a:pt x="48" y="421"/>
                  </a:lnTo>
                  <a:lnTo>
                    <a:pt x="61" y="434"/>
                  </a:lnTo>
                  <a:lnTo>
                    <a:pt x="74" y="447"/>
                  </a:lnTo>
                  <a:lnTo>
                    <a:pt x="90" y="461"/>
                  </a:lnTo>
                  <a:lnTo>
                    <a:pt x="105" y="472"/>
                  </a:lnTo>
                  <a:lnTo>
                    <a:pt x="122" y="485"/>
                  </a:lnTo>
                  <a:lnTo>
                    <a:pt x="141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3" y="555"/>
                  </a:lnTo>
                  <a:lnTo>
                    <a:pt x="298" y="562"/>
                  </a:lnTo>
                  <a:lnTo>
                    <a:pt x="325" y="570"/>
                  </a:lnTo>
                  <a:lnTo>
                    <a:pt x="352" y="577"/>
                  </a:lnTo>
                  <a:lnTo>
                    <a:pt x="379" y="583"/>
                  </a:lnTo>
                  <a:lnTo>
                    <a:pt x="407" y="588"/>
                  </a:lnTo>
                  <a:lnTo>
                    <a:pt x="436" y="592"/>
                  </a:lnTo>
                  <a:lnTo>
                    <a:pt x="465" y="596"/>
                  </a:lnTo>
                  <a:lnTo>
                    <a:pt x="496" y="600"/>
                  </a:lnTo>
                  <a:lnTo>
                    <a:pt x="526" y="604"/>
                  </a:lnTo>
                  <a:lnTo>
                    <a:pt x="557" y="605"/>
                  </a:lnTo>
                  <a:lnTo>
                    <a:pt x="589" y="605"/>
                  </a:lnTo>
                  <a:lnTo>
                    <a:pt x="622" y="605"/>
                  </a:lnTo>
                  <a:lnTo>
                    <a:pt x="652" y="605"/>
                  </a:lnTo>
                  <a:lnTo>
                    <a:pt x="685" y="605"/>
                  </a:lnTo>
                  <a:lnTo>
                    <a:pt x="716" y="604"/>
                  </a:lnTo>
                  <a:lnTo>
                    <a:pt x="746" y="600"/>
                  </a:lnTo>
                  <a:lnTo>
                    <a:pt x="777" y="596"/>
                  </a:lnTo>
                  <a:lnTo>
                    <a:pt x="806" y="592"/>
                  </a:lnTo>
                  <a:lnTo>
                    <a:pt x="834" y="588"/>
                  </a:lnTo>
                  <a:lnTo>
                    <a:pt x="863" y="583"/>
                  </a:lnTo>
                  <a:lnTo>
                    <a:pt x="890" y="577"/>
                  </a:lnTo>
                  <a:lnTo>
                    <a:pt x="917" y="570"/>
                  </a:lnTo>
                  <a:lnTo>
                    <a:pt x="943" y="562"/>
                  </a:lnTo>
                  <a:lnTo>
                    <a:pt x="968" y="555"/>
                  </a:lnTo>
                  <a:lnTo>
                    <a:pt x="993" y="545"/>
                  </a:lnTo>
                  <a:lnTo>
                    <a:pt x="1016" y="538"/>
                  </a:lnTo>
                  <a:lnTo>
                    <a:pt x="1039" y="528"/>
                  </a:lnTo>
                  <a:lnTo>
                    <a:pt x="1060" y="517"/>
                  </a:lnTo>
                  <a:lnTo>
                    <a:pt x="1081" y="508"/>
                  </a:lnTo>
                  <a:lnTo>
                    <a:pt x="1100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2" y="461"/>
                  </a:lnTo>
                  <a:lnTo>
                    <a:pt x="1167" y="447"/>
                  </a:lnTo>
                  <a:lnTo>
                    <a:pt x="1181" y="434"/>
                  </a:lnTo>
                  <a:lnTo>
                    <a:pt x="1194" y="421"/>
                  </a:lnTo>
                  <a:lnTo>
                    <a:pt x="1206" y="408"/>
                  </a:lnTo>
                  <a:lnTo>
                    <a:pt x="1215" y="393"/>
                  </a:lnTo>
                  <a:lnTo>
                    <a:pt x="1223" y="378"/>
                  </a:lnTo>
                  <a:lnTo>
                    <a:pt x="1231" y="365"/>
                  </a:lnTo>
                  <a:lnTo>
                    <a:pt x="1236" y="350"/>
                  </a:lnTo>
                  <a:lnTo>
                    <a:pt x="1240" y="335"/>
                  </a:lnTo>
                  <a:lnTo>
                    <a:pt x="1242" y="318"/>
                  </a:lnTo>
                  <a:lnTo>
                    <a:pt x="1244" y="303"/>
                  </a:lnTo>
                  <a:lnTo>
                    <a:pt x="1242" y="288"/>
                  </a:lnTo>
                  <a:lnTo>
                    <a:pt x="1240" y="273"/>
                  </a:lnTo>
                  <a:lnTo>
                    <a:pt x="1236" y="256"/>
                  </a:lnTo>
                  <a:lnTo>
                    <a:pt x="1231" y="241"/>
                  </a:lnTo>
                  <a:lnTo>
                    <a:pt x="1223" y="227"/>
                  </a:lnTo>
                  <a:lnTo>
                    <a:pt x="1215" y="212"/>
                  </a:lnTo>
                  <a:lnTo>
                    <a:pt x="1206" y="199"/>
                  </a:lnTo>
                  <a:lnTo>
                    <a:pt x="1194" y="184"/>
                  </a:lnTo>
                  <a:lnTo>
                    <a:pt x="1181" y="171"/>
                  </a:lnTo>
                  <a:lnTo>
                    <a:pt x="1167" y="158"/>
                  </a:lnTo>
                  <a:lnTo>
                    <a:pt x="1152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0" y="109"/>
                  </a:lnTo>
                  <a:lnTo>
                    <a:pt x="1081" y="98"/>
                  </a:lnTo>
                  <a:lnTo>
                    <a:pt x="1060" y="88"/>
                  </a:lnTo>
                  <a:lnTo>
                    <a:pt x="1039" y="77"/>
                  </a:lnTo>
                  <a:lnTo>
                    <a:pt x="1016" y="68"/>
                  </a:lnTo>
                  <a:lnTo>
                    <a:pt x="993" y="60"/>
                  </a:lnTo>
                  <a:lnTo>
                    <a:pt x="968" y="51"/>
                  </a:lnTo>
                  <a:lnTo>
                    <a:pt x="943" y="43"/>
                  </a:lnTo>
                  <a:lnTo>
                    <a:pt x="917" y="36"/>
                  </a:lnTo>
                  <a:lnTo>
                    <a:pt x="890" y="28"/>
                  </a:lnTo>
                  <a:lnTo>
                    <a:pt x="863" y="23"/>
                  </a:lnTo>
                  <a:lnTo>
                    <a:pt x="834" y="17"/>
                  </a:lnTo>
                  <a:lnTo>
                    <a:pt x="806" y="13"/>
                  </a:lnTo>
                  <a:lnTo>
                    <a:pt x="777" y="9"/>
                  </a:lnTo>
                  <a:lnTo>
                    <a:pt x="746" y="6"/>
                  </a:lnTo>
                  <a:lnTo>
                    <a:pt x="716" y="2"/>
                  </a:lnTo>
                  <a:lnTo>
                    <a:pt x="685" y="0"/>
                  </a:lnTo>
                  <a:lnTo>
                    <a:pt x="652" y="0"/>
                  </a:lnTo>
                  <a:lnTo>
                    <a:pt x="62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2208240"/>
              <a:ext cx="987480" cy="480960"/>
            </a:xfrm>
            <a:custGeom>
              <a:avLst/>
              <a:gdLst/>
              <a:ahLst/>
              <a:rect l="l" t="t" r="r" b="b"/>
              <a:pathLst>
                <a:path w="1245" h="605">
                  <a:moveTo>
                    <a:pt x="623" y="0"/>
                  </a:moveTo>
                  <a:lnTo>
                    <a:pt x="590" y="0"/>
                  </a:lnTo>
                  <a:lnTo>
                    <a:pt x="557" y="0"/>
                  </a:lnTo>
                  <a:lnTo>
                    <a:pt x="527" y="2"/>
                  </a:lnTo>
                  <a:lnTo>
                    <a:pt x="496" y="6"/>
                  </a:lnTo>
                  <a:lnTo>
                    <a:pt x="466" y="9"/>
                  </a:lnTo>
                  <a:lnTo>
                    <a:pt x="437" y="13"/>
                  </a:lnTo>
                  <a:lnTo>
                    <a:pt x="408" y="17"/>
                  </a:lnTo>
                  <a:lnTo>
                    <a:pt x="379" y="23"/>
                  </a:lnTo>
                  <a:lnTo>
                    <a:pt x="353" y="28"/>
                  </a:lnTo>
                  <a:lnTo>
                    <a:pt x="326" y="36"/>
                  </a:lnTo>
                  <a:lnTo>
                    <a:pt x="299" y="43"/>
                  </a:lnTo>
                  <a:lnTo>
                    <a:pt x="274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2" y="109"/>
                  </a:lnTo>
                  <a:lnTo>
                    <a:pt x="123" y="120"/>
                  </a:lnTo>
                  <a:lnTo>
                    <a:pt x="106" y="133"/>
                  </a:lnTo>
                  <a:lnTo>
                    <a:pt x="90" y="145"/>
                  </a:lnTo>
                  <a:lnTo>
                    <a:pt x="75" y="158"/>
                  </a:lnTo>
                  <a:lnTo>
                    <a:pt x="62" y="171"/>
                  </a:lnTo>
                  <a:lnTo>
                    <a:pt x="48" y="184"/>
                  </a:lnTo>
                  <a:lnTo>
                    <a:pt x="37" y="199"/>
                  </a:lnTo>
                  <a:lnTo>
                    <a:pt x="27" y="212"/>
                  </a:lnTo>
                  <a:lnTo>
                    <a:pt x="20" y="227"/>
                  </a:lnTo>
                  <a:lnTo>
                    <a:pt x="12" y="241"/>
                  </a:lnTo>
                  <a:lnTo>
                    <a:pt x="6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6" y="350"/>
                  </a:lnTo>
                  <a:lnTo>
                    <a:pt x="12" y="365"/>
                  </a:lnTo>
                  <a:lnTo>
                    <a:pt x="20" y="378"/>
                  </a:lnTo>
                  <a:lnTo>
                    <a:pt x="27" y="393"/>
                  </a:lnTo>
                  <a:lnTo>
                    <a:pt x="37" y="408"/>
                  </a:lnTo>
                  <a:lnTo>
                    <a:pt x="48" y="421"/>
                  </a:lnTo>
                  <a:lnTo>
                    <a:pt x="62" y="434"/>
                  </a:lnTo>
                  <a:lnTo>
                    <a:pt x="75" y="447"/>
                  </a:lnTo>
                  <a:lnTo>
                    <a:pt x="90" y="461"/>
                  </a:lnTo>
                  <a:lnTo>
                    <a:pt x="106" y="472"/>
                  </a:lnTo>
                  <a:lnTo>
                    <a:pt x="123" y="485"/>
                  </a:lnTo>
                  <a:lnTo>
                    <a:pt x="142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4" y="555"/>
                  </a:lnTo>
                  <a:lnTo>
                    <a:pt x="299" y="562"/>
                  </a:lnTo>
                  <a:lnTo>
                    <a:pt x="326" y="570"/>
                  </a:lnTo>
                  <a:lnTo>
                    <a:pt x="353" y="577"/>
                  </a:lnTo>
                  <a:lnTo>
                    <a:pt x="379" y="583"/>
                  </a:lnTo>
                  <a:lnTo>
                    <a:pt x="408" y="588"/>
                  </a:lnTo>
                  <a:lnTo>
                    <a:pt x="437" y="592"/>
                  </a:lnTo>
                  <a:lnTo>
                    <a:pt x="466" y="596"/>
                  </a:lnTo>
                  <a:lnTo>
                    <a:pt x="496" y="600"/>
                  </a:lnTo>
                  <a:lnTo>
                    <a:pt x="527" y="604"/>
                  </a:lnTo>
                  <a:lnTo>
                    <a:pt x="557" y="605"/>
                  </a:lnTo>
                  <a:lnTo>
                    <a:pt x="590" y="605"/>
                  </a:lnTo>
                  <a:lnTo>
                    <a:pt x="623" y="605"/>
                  </a:lnTo>
                  <a:lnTo>
                    <a:pt x="653" y="605"/>
                  </a:lnTo>
                  <a:lnTo>
                    <a:pt x="686" y="605"/>
                  </a:lnTo>
                  <a:lnTo>
                    <a:pt x="716" y="604"/>
                  </a:lnTo>
                  <a:lnTo>
                    <a:pt x="747" y="600"/>
                  </a:lnTo>
                  <a:lnTo>
                    <a:pt x="778" y="596"/>
                  </a:lnTo>
                  <a:lnTo>
                    <a:pt x="806" y="592"/>
                  </a:lnTo>
                  <a:lnTo>
                    <a:pt x="835" y="588"/>
                  </a:lnTo>
                  <a:lnTo>
                    <a:pt x="864" y="583"/>
                  </a:lnTo>
                  <a:lnTo>
                    <a:pt x="891" y="577"/>
                  </a:lnTo>
                  <a:lnTo>
                    <a:pt x="917" y="570"/>
                  </a:lnTo>
                  <a:lnTo>
                    <a:pt x="944" y="562"/>
                  </a:lnTo>
                  <a:lnTo>
                    <a:pt x="969" y="555"/>
                  </a:lnTo>
                  <a:lnTo>
                    <a:pt x="994" y="545"/>
                  </a:lnTo>
                  <a:lnTo>
                    <a:pt x="1017" y="538"/>
                  </a:lnTo>
                  <a:lnTo>
                    <a:pt x="1040" y="528"/>
                  </a:lnTo>
                  <a:lnTo>
                    <a:pt x="1061" y="517"/>
                  </a:lnTo>
                  <a:lnTo>
                    <a:pt x="1082" y="508"/>
                  </a:lnTo>
                  <a:lnTo>
                    <a:pt x="1101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3" y="461"/>
                  </a:lnTo>
                  <a:lnTo>
                    <a:pt x="1168" y="447"/>
                  </a:lnTo>
                  <a:lnTo>
                    <a:pt x="1182" y="434"/>
                  </a:lnTo>
                  <a:lnTo>
                    <a:pt x="1195" y="421"/>
                  </a:lnTo>
                  <a:lnTo>
                    <a:pt x="1206" y="408"/>
                  </a:lnTo>
                  <a:lnTo>
                    <a:pt x="1216" y="393"/>
                  </a:lnTo>
                  <a:lnTo>
                    <a:pt x="1224" y="378"/>
                  </a:lnTo>
                  <a:lnTo>
                    <a:pt x="1231" y="365"/>
                  </a:lnTo>
                  <a:lnTo>
                    <a:pt x="1237" y="350"/>
                  </a:lnTo>
                  <a:lnTo>
                    <a:pt x="1241" y="335"/>
                  </a:lnTo>
                  <a:lnTo>
                    <a:pt x="1243" y="318"/>
                  </a:lnTo>
                  <a:lnTo>
                    <a:pt x="1245" y="303"/>
                  </a:lnTo>
                  <a:lnTo>
                    <a:pt x="1243" y="288"/>
                  </a:lnTo>
                  <a:lnTo>
                    <a:pt x="1241" y="273"/>
                  </a:lnTo>
                  <a:lnTo>
                    <a:pt x="1237" y="256"/>
                  </a:lnTo>
                  <a:lnTo>
                    <a:pt x="1231" y="241"/>
                  </a:lnTo>
                  <a:lnTo>
                    <a:pt x="1224" y="227"/>
                  </a:lnTo>
                  <a:lnTo>
                    <a:pt x="1216" y="212"/>
                  </a:lnTo>
                  <a:lnTo>
                    <a:pt x="1206" y="199"/>
                  </a:lnTo>
                  <a:lnTo>
                    <a:pt x="1195" y="184"/>
                  </a:lnTo>
                  <a:lnTo>
                    <a:pt x="1182" y="171"/>
                  </a:lnTo>
                  <a:lnTo>
                    <a:pt x="1168" y="158"/>
                  </a:lnTo>
                  <a:lnTo>
                    <a:pt x="1153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1" y="109"/>
                  </a:lnTo>
                  <a:lnTo>
                    <a:pt x="1082" y="98"/>
                  </a:lnTo>
                  <a:lnTo>
                    <a:pt x="1061" y="88"/>
                  </a:lnTo>
                  <a:lnTo>
                    <a:pt x="1040" y="77"/>
                  </a:lnTo>
                  <a:lnTo>
                    <a:pt x="1017" y="68"/>
                  </a:lnTo>
                  <a:lnTo>
                    <a:pt x="994" y="60"/>
                  </a:lnTo>
                  <a:lnTo>
                    <a:pt x="969" y="51"/>
                  </a:lnTo>
                  <a:lnTo>
                    <a:pt x="944" y="43"/>
                  </a:lnTo>
                  <a:lnTo>
                    <a:pt x="917" y="36"/>
                  </a:lnTo>
                  <a:lnTo>
                    <a:pt x="891" y="28"/>
                  </a:lnTo>
                  <a:lnTo>
                    <a:pt x="864" y="23"/>
                  </a:lnTo>
                  <a:lnTo>
                    <a:pt x="835" y="17"/>
                  </a:lnTo>
                  <a:lnTo>
                    <a:pt x="806" y="13"/>
                  </a:lnTo>
                  <a:lnTo>
                    <a:pt x="778" y="9"/>
                  </a:lnTo>
                  <a:lnTo>
                    <a:pt x="747" y="6"/>
                  </a:lnTo>
                  <a:lnTo>
                    <a:pt x="716" y="2"/>
                  </a:lnTo>
                  <a:lnTo>
                    <a:pt x="686" y="0"/>
                  </a:lnTo>
                  <a:lnTo>
                    <a:pt x="65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76520" y="2208240"/>
              <a:ext cx="987480" cy="480960"/>
            </a:xfrm>
            <a:custGeom>
              <a:avLst/>
              <a:gdLst/>
              <a:ahLst/>
              <a:rect l="l" t="t" r="r" b="b"/>
              <a:pathLst>
                <a:path w="1245" h="605">
                  <a:moveTo>
                    <a:pt x="623" y="0"/>
                  </a:moveTo>
                  <a:lnTo>
                    <a:pt x="590" y="0"/>
                  </a:lnTo>
                  <a:lnTo>
                    <a:pt x="557" y="0"/>
                  </a:lnTo>
                  <a:lnTo>
                    <a:pt x="527" y="2"/>
                  </a:lnTo>
                  <a:lnTo>
                    <a:pt x="496" y="6"/>
                  </a:lnTo>
                  <a:lnTo>
                    <a:pt x="466" y="9"/>
                  </a:lnTo>
                  <a:lnTo>
                    <a:pt x="437" y="13"/>
                  </a:lnTo>
                  <a:lnTo>
                    <a:pt x="408" y="17"/>
                  </a:lnTo>
                  <a:lnTo>
                    <a:pt x="379" y="23"/>
                  </a:lnTo>
                  <a:lnTo>
                    <a:pt x="353" y="28"/>
                  </a:lnTo>
                  <a:lnTo>
                    <a:pt x="326" y="36"/>
                  </a:lnTo>
                  <a:lnTo>
                    <a:pt x="299" y="43"/>
                  </a:lnTo>
                  <a:lnTo>
                    <a:pt x="274" y="51"/>
                  </a:lnTo>
                  <a:lnTo>
                    <a:pt x="249" y="60"/>
                  </a:lnTo>
                  <a:lnTo>
                    <a:pt x="226" y="68"/>
                  </a:lnTo>
                  <a:lnTo>
                    <a:pt x="203" y="77"/>
                  </a:lnTo>
                  <a:lnTo>
                    <a:pt x="182" y="88"/>
                  </a:lnTo>
                  <a:lnTo>
                    <a:pt x="161" y="98"/>
                  </a:lnTo>
                  <a:lnTo>
                    <a:pt x="142" y="109"/>
                  </a:lnTo>
                  <a:lnTo>
                    <a:pt x="123" y="120"/>
                  </a:lnTo>
                  <a:lnTo>
                    <a:pt x="106" y="133"/>
                  </a:lnTo>
                  <a:lnTo>
                    <a:pt x="90" y="145"/>
                  </a:lnTo>
                  <a:lnTo>
                    <a:pt x="75" y="158"/>
                  </a:lnTo>
                  <a:lnTo>
                    <a:pt x="62" y="171"/>
                  </a:lnTo>
                  <a:lnTo>
                    <a:pt x="48" y="184"/>
                  </a:lnTo>
                  <a:lnTo>
                    <a:pt x="37" y="199"/>
                  </a:lnTo>
                  <a:lnTo>
                    <a:pt x="27" y="212"/>
                  </a:lnTo>
                  <a:lnTo>
                    <a:pt x="20" y="227"/>
                  </a:lnTo>
                  <a:lnTo>
                    <a:pt x="12" y="241"/>
                  </a:lnTo>
                  <a:lnTo>
                    <a:pt x="6" y="256"/>
                  </a:lnTo>
                  <a:lnTo>
                    <a:pt x="2" y="273"/>
                  </a:lnTo>
                  <a:lnTo>
                    <a:pt x="0" y="288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" y="335"/>
                  </a:lnTo>
                  <a:lnTo>
                    <a:pt x="6" y="350"/>
                  </a:lnTo>
                  <a:lnTo>
                    <a:pt x="12" y="365"/>
                  </a:lnTo>
                  <a:lnTo>
                    <a:pt x="20" y="378"/>
                  </a:lnTo>
                  <a:lnTo>
                    <a:pt x="27" y="393"/>
                  </a:lnTo>
                  <a:lnTo>
                    <a:pt x="37" y="408"/>
                  </a:lnTo>
                  <a:lnTo>
                    <a:pt x="48" y="421"/>
                  </a:lnTo>
                  <a:lnTo>
                    <a:pt x="62" y="434"/>
                  </a:lnTo>
                  <a:lnTo>
                    <a:pt x="75" y="447"/>
                  </a:lnTo>
                  <a:lnTo>
                    <a:pt x="90" y="461"/>
                  </a:lnTo>
                  <a:lnTo>
                    <a:pt x="106" y="472"/>
                  </a:lnTo>
                  <a:lnTo>
                    <a:pt x="123" y="485"/>
                  </a:lnTo>
                  <a:lnTo>
                    <a:pt x="142" y="496"/>
                  </a:lnTo>
                  <a:lnTo>
                    <a:pt x="161" y="508"/>
                  </a:lnTo>
                  <a:lnTo>
                    <a:pt x="182" y="517"/>
                  </a:lnTo>
                  <a:lnTo>
                    <a:pt x="203" y="528"/>
                  </a:lnTo>
                  <a:lnTo>
                    <a:pt x="226" y="538"/>
                  </a:lnTo>
                  <a:lnTo>
                    <a:pt x="249" y="545"/>
                  </a:lnTo>
                  <a:lnTo>
                    <a:pt x="274" y="555"/>
                  </a:lnTo>
                  <a:lnTo>
                    <a:pt x="299" y="562"/>
                  </a:lnTo>
                  <a:lnTo>
                    <a:pt x="326" y="570"/>
                  </a:lnTo>
                  <a:lnTo>
                    <a:pt x="353" y="577"/>
                  </a:lnTo>
                  <a:lnTo>
                    <a:pt x="379" y="583"/>
                  </a:lnTo>
                  <a:lnTo>
                    <a:pt x="408" y="588"/>
                  </a:lnTo>
                  <a:lnTo>
                    <a:pt x="437" y="592"/>
                  </a:lnTo>
                  <a:lnTo>
                    <a:pt x="466" y="596"/>
                  </a:lnTo>
                  <a:lnTo>
                    <a:pt x="496" y="600"/>
                  </a:lnTo>
                  <a:lnTo>
                    <a:pt x="527" y="604"/>
                  </a:lnTo>
                  <a:lnTo>
                    <a:pt x="557" y="605"/>
                  </a:lnTo>
                  <a:lnTo>
                    <a:pt x="590" y="605"/>
                  </a:lnTo>
                  <a:lnTo>
                    <a:pt x="623" y="605"/>
                  </a:lnTo>
                  <a:lnTo>
                    <a:pt x="653" y="605"/>
                  </a:lnTo>
                  <a:lnTo>
                    <a:pt x="686" y="605"/>
                  </a:lnTo>
                  <a:lnTo>
                    <a:pt x="716" y="604"/>
                  </a:lnTo>
                  <a:lnTo>
                    <a:pt x="747" y="600"/>
                  </a:lnTo>
                  <a:lnTo>
                    <a:pt x="778" y="596"/>
                  </a:lnTo>
                  <a:lnTo>
                    <a:pt x="806" y="592"/>
                  </a:lnTo>
                  <a:lnTo>
                    <a:pt x="835" y="588"/>
                  </a:lnTo>
                  <a:lnTo>
                    <a:pt x="864" y="583"/>
                  </a:lnTo>
                  <a:lnTo>
                    <a:pt x="891" y="577"/>
                  </a:lnTo>
                  <a:lnTo>
                    <a:pt x="917" y="570"/>
                  </a:lnTo>
                  <a:lnTo>
                    <a:pt x="944" y="562"/>
                  </a:lnTo>
                  <a:lnTo>
                    <a:pt x="969" y="555"/>
                  </a:lnTo>
                  <a:lnTo>
                    <a:pt x="994" y="545"/>
                  </a:lnTo>
                  <a:lnTo>
                    <a:pt x="1017" y="538"/>
                  </a:lnTo>
                  <a:lnTo>
                    <a:pt x="1040" y="528"/>
                  </a:lnTo>
                  <a:lnTo>
                    <a:pt x="1061" y="517"/>
                  </a:lnTo>
                  <a:lnTo>
                    <a:pt x="1082" y="508"/>
                  </a:lnTo>
                  <a:lnTo>
                    <a:pt x="1101" y="496"/>
                  </a:lnTo>
                  <a:lnTo>
                    <a:pt x="1120" y="485"/>
                  </a:lnTo>
                  <a:lnTo>
                    <a:pt x="1137" y="472"/>
                  </a:lnTo>
                  <a:lnTo>
                    <a:pt x="1153" y="461"/>
                  </a:lnTo>
                  <a:lnTo>
                    <a:pt x="1168" y="447"/>
                  </a:lnTo>
                  <a:lnTo>
                    <a:pt x="1182" y="434"/>
                  </a:lnTo>
                  <a:lnTo>
                    <a:pt x="1195" y="421"/>
                  </a:lnTo>
                  <a:lnTo>
                    <a:pt x="1206" y="408"/>
                  </a:lnTo>
                  <a:lnTo>
                    <a:pt x="1216" y="393"/>
                  </a:lnTo>
                  <a:lnTo>
                    <a:pt x="1224" y="378"/>
                  </a:lnTo>
                  <a:lnTo>
                    <a:pt x="1231" y="365"/>
                  </a:lnTo>
                  <a:lnTo>
                    <a:pt x="1237" y="350"/>
                  </a:lnTo>
                  <a:lnTo>
                    <a:pt x="1241" y="335"/>
                  </a:lnTo>
                  <a:lnTo>
                    <a:pt x="1243" y="318"/>
                  </a:lnTo>
                  <a:lnTo>
                    <a:pt x="1245" y="303"/>
                  </a:lnTo>
                  <a:lnTo>
                    <a:pt x="1243" y="288"/>
                  </a:lnTo>
                  <a:lnTo>
                    <a:pt x="1241" y="273"/>
                  </a:lnTo>
                  <a:lnTo>
                    <a:pt x="1237" y="256"/>
                  </a:lnTo>
                  <a:lnTo>
                    <a:pt x="1231" y="241"/>
                  </a:lnTo>
                  <a:lnTo>
                    <a:pt x="1224" y="227"/>
                  </a:lnTo>
                  <a:lnTo>
                    <a:pt x="1216" y="212"/>
                  </a:lnTo>
                  <a:lnTo>
                    <a:pt x="1206" y="199"/>
                  </a:lnTo>
                  <a:lnTo>
                    <a:pt x="1195" y="184"/>
                  </a:lnTo>
                  <a:lnTo>
                    <a:pt x="1182" y="171"/>
                  </a:lnTo>
                  <a:lnTo>
                    <a:pt x="1168" y="158"/>
                  </a:lnTo>
                  <a:lnTo>
                    <a:pt x="1153" y="145"/>
                  </a:lnTo>
                  <a:lnTo>
                    <a:pt x="1137" y="133"/>
                  </a:lnTo>
                  <a:lnTo>
                    <a:pt x="1120" y="120"/>
                  </a:lnTo>
                  <a:lnTo>
                    <a:pt x="1101" y="109"/>
                  </a:lnTo>
                  <a:lnTo>
                    <a:pt x="1082" y="98"/>
                  </a:lnTo>
                  <a:lnTo>
                    <a:pt x="1061" y="88"/>
                  </a:lnTo>
                  <a:lnTo>
                    <a:pt x="1040" y="77"/>
                  </a:lnTo>
                  <a:lnTo>
                    <a:pt x="1017" y="68"/>
                  </a:lnTo>
                  <a:lnTo>
                    <a:pt x="994" y="60"/>
                  </a:lnTo>
                  <a:lnTo>
                    <a:pt x="969" y="51"/>
                  </a:lnTo>
                  <a:lnTo>
                    <a:pt x="944" y="43"/>
                  </a:lnTo>
                  <a:lnTo>
                    <a:pt x="917" y="36"/>
                  </a:lnTo>
                  <a:lnTo>
                    <a:pt x="891" y="28"/>
                  </a:lnTo>
                  <a:lnTo>
                    <a:pt x="864" y="23"/>
                  </a:lnTo>
                  <a:lnTo>
                    <a:pt x="835" y="17"/>
                  </a:lnTo>
                  <a:lnTo>
                    <a:pt x="806" y="13"/>
                  </a:lnTo>
                  <a:lnTo>
                    <a:pt x="778" y="9"/>
                  </a:lnTo>
                  <a:lnTo>
                    <a:pt x="747" y="6"/>
                  </a:lnTo>
                  <a:lnTo>
                    <a:pt x="716" y="2"/>
                  </a:lnTo>
                  <a:lnTo>
                    <a:pt x="686" y="0"/>
                  </a:lnTo>
                  <a:lnTo>
                    <a:pt x="653" y="0"/>
                  </a:lnTo>
                  <a:lnTo>
                    <a:pt x="6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6320" y="225432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19160" y="242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84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84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400" y="623880"/>
              <a:ext cx="42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12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720" y="62388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40" y="803160"/>
              <a:ext cx="78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zzle/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52480" y="1984320"/>
              <a:ext cx="1508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2480" y="1984320"/>
              <a:ext cx="1508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560" y="189216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t ro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62280" y="20718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320" y="107172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040" y="125100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ple w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161136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480" y="161136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2920" y="1519200"/>
              <a:ext cx="119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or/window wi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600" y="16984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tel/sacrificial 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876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87680" y="716040"/>
              <a:ext cx="15228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8920" y="6238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304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7920" y="62388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4720" y="8031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zzle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9720" y="190980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9720" y="1909800"/>
              <a:ext cx="1508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47560" y="1817640"/>
              <a:ext cx="157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r reinforcemen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52480" y="1996920"/>
              <a:ext cx="126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ical/plum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591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91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7720" y="62388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6680" y="803160"/>
              <a:ext cx="125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bedding/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5916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5916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5" y="0"/>
                  </a:moveTo>
                  <a:lnTo>
                    <a:pt x="0" y="94"/>
                  </a:lnTo>
                  <a:lnTo>
                    <a:pt x="95" y="188"/>
                  </a:lnTo>
                  <a:lnTo>
                    <a:pt x="191" y="94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87680" y="107172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ort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0280" y="125100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06960" y="1163520"/>
              <a:ext cx="1508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06960" y="1163520"/>
              <a:ext cx="150840" cy="14940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1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160" y="1071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4640" y="1071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74680" y="1071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920" y="1251000"/>
              <a:ext cx="86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ga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975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97560" y="71604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56360" y="623880"/>
              <a:ext cx="77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24600" y="623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2120" y="6238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3280" y="803160"/>
              <a:ext cx="11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80" y="2881440"/>
              <a:ext cx="911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880" y="6611760"/>
              <a:ext cx="911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18480" y="1760400"/>
              <a:ext cx="173160" cy="4627800"/>
            </a:xfrm>
            <a:custGeom>
              <a:avLst/>
              <a:gdLst/>
              <a:ahLst/>
              <a:rect l="l" t="t" r="r" b="b"/>
              <a:pathLst>
                <a:path w="216" h="5828">
                  <a:moveTo>
                    <a:pt x="73" y="5828"/>
                  </a:moveTo>
                  <a:lnTo>
                    <a:pt x="73" y="177"/>
                  </a:lnTo>
                  <a:lnTo>
                    <a:pt x="143" y="177"/>
                  </a:lnTo>
                  <a:lnTo>
                    <a:pt x="143" y="5828"/>
                  </a:lnTo>
                  <a:lnTo>
                    <a:pt x="73" y="5828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75240" y="2282760"/>
              <a:ext cx="171720" cy="4105440"/>
            </a:xfrm>
            <a:custGeom>
              <a:avLst/>
              <a:gdLst/>
              <a:ahLst/>
              <a:rect l="l" t="t" r="r" b="b"/>
              <a:pathLst>
                <a:path w="217" h="5170">
                  <a:moveTo>
                    <a:pt x="73" y="5170"/>
                  </a:moveTo>
                  <a:lnTo>
                    <a:pt x="73" y="175"/>
                  </a:lnTo>
                  <a:lnTo>
                    <a:pt x="144" y="175"/>
                  </a:lnTo>
                  <a:lnTo>
                    <a:pt x="144" y="5170"/>
                  </a:lnTo>
                  <a:lnTo>
                    <a:pt x="73" y="517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7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2920" y="2583000"/>
              <a:ext cx="171360" cy="3730320"/>
            </a:xfrm>
            <a:custGeom>
              <a:avLst/>
              <a:gdLst/>
              <a:ahLst/>
              <a:rect l="l" t="t" r="r" b="b"/>
              <a:pathLst>
                <a:path w="216" h="4700">
                  <a:moveTo>
                    <a:pt x="73" y="4700"/>
                  </a:moveTo>
                  <a:lnTo>
                    <a:pt x="73" y="175"/>
                  </a:lnTo>
                  <a:lnTo>
                    <a:pt x="144" y="175"/>
                  </a:lnTo>
                  <a:lnTo>
                    <a:pt x="144" y="4700"/>
                  </a:lnTo>
                  <a:lnTo>
                    <a:pt x="73" y="470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44800" y="2657520"/>
              <a:ext cx="171360" cy="3730680"/>
            </a:xfrm>
            <a:custGeom>
              <a:avLst/>
              <a:gdLst/>
              <a:ahLst/>
              <a:rect l="l" t="t" r="r" b="b"/>
              <a:pathLst>
                <a:path w="216" h="4700">
                  <a:moveTo>
                    <a:pt x="72" y="4700"/>
                  </a:moveTo>
                  <a:lnTo>
                    <a:pt x="72" y="175"/>
                  </a:lnTo>
                  <a:lnTo>
                    <a:pt x="143" y="175"/>
                  </a:lnTo>
                  <a:lnTo>
                    <a:pt x="143" y="4700"/>
                  </a:lnTo>
                  <a:lnTo>
                    <a:pt x="72" y="4700"/>
                  </a:lnTo>
                  <a:close/>
                  <a:moveTo>
                    <a:pt x="0" y="211"/>
                  </a:moveTo>
                  <a:lnTo>
                    <a:pt x="109" y="0"/>
                  </a:lnTo>
                  <a:lnTo>
                    <a:pt x="216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03320" y="4091040"/>
              <a:ext cx="7000920" cy="18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03320" y="4091040"/>
              <a:ext cx="700092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4040" y="4106880"/>
              <a:ext cx="200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e testing &amp; model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31120" y="4106880"/>
              <a:ext cx="156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ole structure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2240" y="3757680"/>
              <a:ext cx="4522680" cy="189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2240" y="3757680"/>
              <a:ext cx="452268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05640" y="3773520"/>
              <a:ext cx="121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mode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1840" y="4529160"/>
              <a:ext cx="6432480" cy="189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840" y="4529160"/>
              <a:ext cx="643248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6520" y="4545000"/>
              <a:ext cx="219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 system: Basic 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4680" y="45450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84720" y="4545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33680" y="4545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2800" y="454500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lex 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360" y="4862520"/>
              <a:ext cx="5085000" cy="18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360" y="4862520"/>
              <a:ext cx="508500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2320" y="4878360"/>
              <a:ext cx="112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ual alig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08160" y="4878360"/>
              <a:ext cx="309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 quality inspection          Video log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66840" y="5194440"/>
              <a:ext cx="4523040" cy="18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6840" y="5194440"/>
              <a:ext cx="452304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6920" y="521028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al health monitor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800" y="5632560"/>
              <a:ext cx="5429160" cy="187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800" y="5632560"/>
              <a:ext cx="542916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6040" y="5649840"/>
              <a:ext cx="140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lligent CAD/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22600" y="5649840"/>
              <a:ext cx="344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e feasibility       Fabrication plan 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280" y="5964120"/>
              <a:ext cx="4330800" cy="187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0280" y="5964120"/>
              <a:ext cx="4330800" cy="1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280" y="598176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aborative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2240" y="5981760"/>
              <a:ext cx="233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inforcement/Plumbing/Electr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6280" y="6296040"/>
              <a:ext cx="5435640" cy="189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46280" y="6296040"/>
              <a:ext cx="5435640" cy="18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59680" y="631332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9320" y="784080"/>
              <a:ext cx="185760" cy="379440"/>
            </a:xfrm>
            <a:custGeom>
              <a:avLst/>
              <a:gdLst/>
              <a:ahLst/>
              <a:rect l="l" t="t" r="r" b="b"/>
              <a:pathLst>
                <a:path w="236" h="480">
                  <a:moveTo>
                    <a:pt x="2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21" y="4"/>
                  </a:lnTo>
                  <a:lnTo>
                    <a:pt x="31" y="8"/>
                  </a:lnTo>
                  <a:lnTo>
                    <a:pt x="40" y="12"/>
                  </a:lnTo>
                  <a:lnTo>
                    <a:pt x="50" y="19"/>
                  </a:lnTo>
                  <a:lnTo>
                    <a:pt x="60" y="27"/>
                  </a:lnTo>
                  <a:lnTo>
                    <a:pt x="69" y="34"/>
                  </a:lnTo>
                  <a:lnTo>
                    <a:pt x="77" y="44"/>
                  </a:lnTo>
                  <a:lnTo>
                    <a:pt x="86" y="55"/>
                  </a:lnTo>
                  <a:lnTo>
                    <a:pt x="94" y="66"/>
                  </a:lnTo>
                  <a:lnTo>
                    <a:pt x="104" y="79"/>
                  </a:lnTo>
                  <a:lnTo>
                    <a:pt x="111" y="93"/>
                  </a:lnTo>
                  <a:lnTo>
                    <a:pt x="119" y="106"/>
                  </a:lnTo>
                  <a:lnTo>
                    <a:pt x="127" y="121"/>
                  </a:lnTo>
                  <a:lnTo>
                    <a:pt x="134" y="136"/>
                  </a:lnTo>
                  <a:lnTo>
                    <a:pt x="140" y="153"/>
                  </a:lnTo>
                  <a:lnTo>
                    <a:pt x="153" y="187"/>
                  </a:lnTo>
                  <a:lnTo>
                    <a:pt x="165" y="224"/>
                  </a:lnTo>
                  <a:lnTo>
                    <a:pt x="174" y="264"/>
                  </a:lnTo>
                  <a:lnTo>
                    <a:pt x="184" y="305"/>
                  </a:lnTo>
                  <a:lnTo>
                    <a:pt x="192" y="346"/>
                  </a:lnTo>
                  <a:lnTo>
                    <a:pt x="197" y="401"/>
                  </a:lnTo>
                  <a:lnTo>
                    <a:pt x="180" y="401"/>
                  </a:lnTo>
                  <a:lnTo>
                    <a:pt x="176" y="350"/>
                  </a:lnTo>
                  <a:lnTo>
                    <a:pt x="169" y="309"/>
                  </a:lnTo>
                  <a:lnTo>
                    <a:pt x="159" y="267"/>
                  </a:lnTo>
                  <a:lnTo>
                    <a:pt x="150" y="230"/>
                  </a:lnTo>
                  <a:lnTo>
                    <a:pt x="138" y="192"/>
                  </a:lnTo>
                  <a:lnTo>
                    <a:pt x="125" y="158"/>
                  </a:lnTo>
                  <a:lnTo>
                    <a:pt x="119" y="143"/>
                  </a:lnTo>
                  <a:lnTo>
                    <a:pt x="111" y="128"/>
                  </a:lnTo>
                  <a:lnTo>
                    <a:pt x="104" y="113"/>
                  </a:lnTo>
                  <a:lnTo>
                    <a:pt x="98" y="100"/>
                  </a:lnTo>
                  <a:lnTo>
                    <a:pt x="90" y="87"/>
                  </a:lnTo>
                  <a:lnTo>
                    <a:pt x="83" y="76"/>
                  </a:lnTo>
                  <a:lnTo>
                    <a:pt x="73" y="64"/>
                  </a:lnTo>
                  <a:lnTo>
                    <a:pt x="65" y="55"/>
                  </a:lnTo>
                  <a:lnTo>
                    <a:pt x="58" y="46"/>
                  </a:lnTo>
                  <a:lnTo>
                    <a:pt x="50" y="38"/>
                  </a:lnTo>
                  <a:lnTo>
                    <a:pt x="42" y="32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17" y="19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236" y="382"/>
                  </a:moveTo>
                  <a:lnTo>
                    <a:pt x="194" y="480"/>
                  </a:lnTo>
                  <a:lnTo>
                    <a:pt x="140" y="388"/>
                  </a:lnTo>
                  <a:lnTo>
                    <a:pt x="236" y="38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6120" y="1231920"/>
              <a:ext cx="757440" cy="976320"/>
            </a:xfrm>
            <a:custGeom>
              <a:avLst/>
              <a:gdLst/>
              <a:ahLst/>
              <a:rect l="l" t="t" r="r" b="b"/>
              <a:pathLst>
                <a:path w="954" h="1232">
                  <a:moveTo>
                    <a:pt x="2" y="0"/>
                  </a:moveTo>
                  <a:lnTo>
                    <a:pt x="23" y="2"/>
                  </a:lnTo>
                  <a:lnTo>
                    <a:pt x="44" y="2"/>
                  </a:lnTo>
                  <a:lnTo>
                    <a:pt x="65" y="6"/>
                  </a:lnTo>
                  <a:lnTo>
                    <a:pt x="88" y="8"/>
                  </a:lnTo>
                  <a:lnTo>
                    <a:pt x="109" y="12"/>
                  </a:lnTo>
                  <a:lnTo>
                    <a:pt x="131" y="17"/>
                  </a:lnTo>
                  <a:lnTo>
                    <a:pt x="152" y="23"/>
                  </a:lnTo>
                  <a:lnTo>
                    <a:pt x="173" y="29"/>
                  </a:lnTo>
                  <a:lnTo>
                    <a:pt x="194" y="36"/>
                  </a:lnTo>
                  <a:lnTo>
                    <a:pt x="215" y="44"/>
                  </a:lnTo>
                  <a:lnTo>
                    <a:pt x="236" y="53"/>
                  </a:lnTo>
                  <a:lnTo>
                    <a:pt x="257" y="63"/>
                  </a:lnTo>
                  <a:lnTo>
                    <a:pt x="278" y="72"/>
                  </a:lnTo>
                  <a:lnTo>
                    <a:pt x="299" y="83"/>
                  </a:lnTo>
                  <a:lnTo>
                    <a:pt x="339" y="108"/>
                  </a:lnTo>
                  <a:lnTo>
                    <a:pt x="379" y="134"/>
                  </a:lnTo>
                  <a:lnTo>
                    <a:pt x="418" y="164"/>
                  </a:lnTo>
                  <a:lnTo>
                    <a:pt x="456" y="194"/>
                  </a:lnTo>
                  <a:lnTo>
                    <a:pt x="494" y="230"/>
                  </a:lnTo>
                  <a:lnTo>
                    <a:pt x="531" y="266"/>
                  </a:lnTo>
                  <a:lnTo>
                    <a:pt x="565" y="303"/>
                  </a:lnTo>
                  <a:lnTo>
                    <a:pt x="600" y="345"/>
                  </a:lnTo>
                  <a:lnTo>
                    <a:pt x="632" y="386"/>
                  </a:lnTo>
                  <a:lnTo>
                    <a:pt x="665" y="431"/>
                  </a:lnTo>
                  <a:lnTo>
                    <a:pt x="695" y="476"/>
                  </a:lnTo>
                  <a:lnTo>
                    <a:pt x="722" y="523"/>
                  </a:lnTo>
                  <a:lnTo>
                    <a:pt x="751" y="572"/>
                  </a:lnTo>
                  <a:lnTo>
                    <a:pt x="776" y="623"/>
                  </a:lnTo>
                  <a:lnTo>
                    <a:pt x="799" y="674"/>
                  </a:lnTo>
                  <a:lnTo>
                    <a:pt x="820" y="726"/>
                  </a:lnTo>
                  <a:lnTo>
                    <a:pt x="841" y="779"/>
                  </a:lnTo>
                  <a:lnTo>
                    <a:pt x="858" y="833"/>
                  </a:lnTo>
                  <a:lnTo>
                    <a:pt x="873" y="890"/>
                  </a:lnTo>
                  <a:lnTo>
                    <a:pt x="887" y="944"/>
                  </a:lnTo>
                  <a:lnTo>
                    <a:pt x="898" y="1003"/>
                  </a:lnTo>
                  <a:lnTo>
                    <a:pt x="906" y="1059"/>
                  </a:lnTo>
                  <a:lnTo>
                    <a:pt x="913" y="1115"/>
                  </a:lnTo>
                  <a:lnTo>
                    <a:pt x="915" y="1153"/>
                  </a:lnTo>
                  <a:lnTo>
                    <a:pt x="900" y="1153"/>
                  </a:lnTo>
                  <a:lnTo>
                    <a:pt x="898" y="1117"/>
                  </a:lnTo>
                  <a:lnTo>
                    <a:pt x="891" y="1061"/>
                  </a:lnTo>
                  <a:lnTo>
                    <a:pt x="883" y="1004"/>
                  </a:lnTo>
                  <a:lnTo>
                    <a:pt x="871" y="948"/>
                  </a:lnTo>
                  <a:lnTo>
                    <a:pt x="858" y="894"/>
                  </a:lnTo>
                  <a:lnTo>
                    <a:pt x="843" y="839"/>
                  </a:lnTo>
                  <a:lnTo>
                    <a:pt x="825" y="784"/>
                  </a:lnTo>
                  <a:lnTo>
                    <a:pt x="806" y="732"/>
                  </a:lnTo>
                  <a:lnTo>
                    <a:pt x="783" y="681"/>
                  </a:lnTo>
                  <a:lnTo>
                    <a:pt x="760" y="628"/>
                  </a:lnTo>
                  <a:lnTo>
                    <a:pt x="735" y="580"/>
                  </a:lnTo>
                  <a:lnTo>
                    <a:pt x="709" y="531"/>
                  </a:lnTo>
                  <a:lnTo>
                    <a:pt x="682" y="484"/>
                  </a:lnTo>
                  <a:lnTo>
                    <a:pt x="651" y="439"/>
                  </a:lnTo>
                  <a:lnTo>
                    <a:pt x="621" y="395"/>
                  </a:lnTo>
                  <a:lnTo>
                    <a:pt x="588" y="354"/>
                  </a:lnTo>
                  <a:lnTo>
                    <a:pt x="554" y="314"/>
                  </a:lnTo>
                  <a:lnTo>
                    <a:pt x="519" y="277"/>
                  </a:lnTo>
                  <a:lnTo>
                    <a:pt x="483" y="241"/>
                  </a:lnTo>
                  <a:lnTo>
                    <a:pt x="446" y="207"/>
                  </a:lnTo>
                  <a:lnTo>
                    <a:pt x="408" y="175"/>
                  </a:lnTo>
                  <a:lnTo>
                    <a:pt x="370" y="147"/>
                  </a:lnTo>
                  <a:lnTo>
                    <a:pt x="332" y="121"/>
                  </a:lnTo>
                  <a:lnTo>
                    <a:pt x="291" y="96"/>
                  </a:lnTo>
                  <a:lnTo>
                    <a:pt x="270" y="87"/>
                  </a:lnTo>
                  <a:lnTo>
                    <a:pt x="251" y="76"/>
                  </a:lnTo>
                  <a:lnTo>
                    <a:pt x="230" y="68"/>
                  </a:lnTo>
                  <a:lnTo>
                    <a:pt x="211" y="59"/>
                  </a:lnTo>
                  <a:lnTo>
                    <a:pt x="190" y="51"/>
                  </a:lnTo>
                  <a:lnTo>
                    <a:pt x="169" y="44"/>
                  </a:lnTo>
                  <a:lnTo>
                    <a:pt x="148" y="38"/>
                  </a:lnTo>
                  <a:lnTo>
                    <a:pt x="127" y="32"/>
                  </a:lnTo>
                  <a:lnTo>
                    <a:pt x="106" y="27"/>
                  </a:lnTo>
                  <a:lnTo>
                    <a:pt x="85" y="23"/>
                  </a:lnTo>
                  <a:lnTo>
                    <a:pt x="64" y="21"/>
                  </a:lnTo>
                  <a:lnTo>
                    <a:pt x="44" y="19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954" y="1136"/>
                  </a:moveTo>
                  <a:lnTo>
                    <a:pt x="910" y="1232"/>
                  </a:lnTo>
                  <a:lnTo>
                    <a:pt x="858" y="1140"/>
                  </a:lnTo>
                  <a:lnTo>
                    <a:pt x="954" y="1136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1880" y="1679400"/>
              <a:ext cx="301680" cy="528840"/>
            </a:xfrm>
            <a:custGeom>
              <a:avLst/>
              <a:gdLst/>
              <a:ahLst/>
              <a:rect l="l" t="t" r="r" b="b"/>
              <a:pathLst>
                <a:path w="379" h="667">
                  <a:moveTo>
                    <a:pt x="2" y="0"/>
                  </a:moveTo>
                  <a:lnTo>
                    <a:pt x="17" y="1"/>
                  </a:lnTo>
                  <a:lnTo>
                    <a:pt x="34" y="3"/>
                  </a:lnTo>
                  <a:lnTo>
                    <a:pt x="49" y="9"/>
                  </a:lnTo>
                  <a:lnTo>
                    <a:pt x="67" y="16"/>
                  </a:lnTo>
                  <a:lnTo>
                    <a:pt x="82" y="24"/>
                  </a:lnTo>
                  <a:lnTo>
                    <a:pt x="97" y="33"/>
                  </a:lnTo>
                  <a:lnTo>
                    <a:pt x="115" y="47"/>
                  </a:lnTo>
                  <a:lnTo>
                    <a:pt x="130" y="58"/>
                  </a:lnTo>
                  <a:lnTo>
                    <a:pt x="143" y="73"/>
                  </a:lnTo>
                  <a:lnTo>
                    <a:pt x="159" y="90"/>
                  </a:lnTo>
                  <a:lnTo>
                    <a:pt x="172" y="107"/>
                  </a:lnTo>
                  <a:lnTo>
                    <a:pt x="187" y="125"/>
                  </a:lnTo>
                  <a:lnTo>
                    <a:pt x="201" y="144"/>
                  </a:lnTo>
                  <a:lnTo>
                    <a:pt x="214" y="165"/>
                  </a:lnTo>
                  <a:lnTo>
                    <a:pt x="226" y="188"/>
                  </a:lnTo>
                  <a:lnTo>
                    <a:pt x="239" y="210"/>
                  </a:lnTo>
                  <a:lnTo>
                    <a:pt x="250" y="235"/>
                  </a:lnTo>
                  <a:lnTo>
                    <a:pt x="260" y="259"/>
                  </a:lnTo>
                  <a:lnTo>
                    <a:pt x="271" y="283"/>
                  </a:lnTo>
                  <a:lnTo>
                    <a:pt x="281" y="310"/>
                  </a:lnTo>
                  <a:lnTo>
                    <a:pt x="291" y="338"/>
                  </a:lnTo>
                  <a:lnTo>
                    <a:pt x="300" y="366"/>
                  </a:lnTo>
                  <a:lnTo>
                    <a:pt x="308" y="394"/>
                  </a:lnTo>
                  <a:lnTo>
                    <a:pt x="316" y="423"/>
                  </a:lnTo>
                  <a:lnTo>
                    <a:pt x="321" y="453"/>
                  </a:lnTo>
                  <a:lnTo>
                    <a:pt x="327" y="481"/>
                  </a:lnTo>
                  <a:lnTo>
                    <a:pt x="333" y="513"/>
                  </a:lnTo>
                  <a:lnTo>
                    <a:pt x="337" y="543"/>
                  </a:lnTo>
                  <a:lnTo>
                    <a:pt x="340" y="588"/>
                  </a:lnTo>
                  <a:lnTo>
                    <a:pt x="323" y="588"/>
                  </a:lnTo>
                  <a:lnTo>
                    <a:pt x="319" y="545"/>
                  </a:lnTo>
                  <a:lnTo>
                    <a:pt x="316" y="515"/>
                  </a:lnTo>
                  <a:lnTo>
                    <a:pt x="312" y="485"/>
                  </a:lnTo>
                  <a:lnTo>
                    <a:pt x="306" y="455"/>
                  </a:lnTo>
                  <a:lnTo>
                    <a:pt x="298" y="426"/>
                  </a:lnTo>
                  <a:lnTo>
                    <a:pt x="293" y="398"/>
                  </a:lnTo>
                  <a:lnTo>
                    <a:pt x="285" y="370"/>
                  </a:lnTo>
                  <a:lnTo>
                    <a:pt x="275" y="344"/>
                  </a:lnTo>
                  <a:lnTo>
                    <a:pt x="266" y="315"/>
                  </a:lnTo>
                  <a:lnTo>
                    <a:pt x="256" y="291"/>
                  </a:lnTo>
                  <a:lnTo>
                    <a:pt x="247" y="265"/>
                  </a:lnTo>
                  <a:lnTo>
                    <a:pt x="235" y="240"/>
                  </a:lnTo>
                  <a:lnTo>
                    <a:pt x="224" y="218"/>
                  </a:lnTo>
                  <a:lnTo>
                    <a:pt x="212" y="195"/>
                  </a:lnTo>
                  <a:lnTo>
                    <a:pt x="201" y="174"/>
                  </a:lnTo>
                  <a:lnTo>
                    <a:pt x="187" y="154"/>
                  </a:lnTo>
                  <a:lnTo>
                    <a:pt x="174" y="135"/>
                  </a:lnTo>
                  <a:lnTo>
                    <a:pt x="160" y="116"/>
                  </a:lnTo>
                  <a:lnTo>
                    <a:pt x="147" y="99"/>
                  </a:lnTo>
                  <a:lnTo>
                    <a:pt x="134" y="84"/>
                  </a:lnTo>
                  <a:lnTo>
                    <a:pt x="118" y="71"/>
                  </a:lnTo>
                  <a:lnTo>
                    <a:pt x="105" y="58"/>
                  </a:lnTo>
                  <a:lnTo>
                    <a:pt x="90" y="47"/>
                  </a:lnTo>
                  <a:lnTo>
                    <a:pt x="74" y="37"/>
                  </a:lnTo>
                  <a:lnTo>
                    <a:pt x="61" y="30"/>
                  </a:lnTo>
                  <a:lnTo>
                    <a:pt x="46" y="24"/>
                  </a:lnTo>
                  <a:lnTo>
                    <a:pt x="30" y="20"/>
                  </a:lnTo>
                  <a:lnTo>
                    <a:pt x="15" y="16"/>
                  </a:lnTo>
                  <a:lnTo>
                    <a:pt x="0" y="16"/>
                  </a:lnTo>
                  <a:lnTo>
                    <a:pt x="2" y="0"/>
                  </a:lnTo>
                  <a:close/>
                  <a:moveTo>
                    <a:pt x="379" y="569"/>
                  </a:moveTo>
                  <a:lnTo>
                    <a:pt x="337" y="667"/>
                  </a:lnTo>
                  <a:lnTo>
                    <a:pt x="283" y="575"/>
                  </a:lnTo>
                  <a:lnTo>
                    <a:pt x="379" y="569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1880" y="2052720"/>
              <a:ext cx="268200" cy="155520"/>
            </a:xfrm>
            <a:custGeom>
              <a:avLst/>
              <a:gdLst/>
              <a:ahLst/>
              <a:rect l="l" t="t" r="r" b="b"/>
              <a:pathLst>
                <a:path w="337" h="197">
                  <a:moveTo>
                    <a:pt x="2" y="0"/>
                  </a:moveTo>
                  <a:lnTo>
                    <a:pt x="32" y="1"/>
                  </a:lnTo>
                  <a:lnTo>
                    <a:pt x="65" y="5"/>
                  </a:lnTo>
                  <a:lnTo>
                    <a:pt x="95" y="9"/>
                  </a:lnTo>
                  <a:lnTo>
                    <a:pt x="126" y="16"/>
                  </a:lnTo>
                  <a:lnTo>
                    <a:pt x="155" y="26"/>
                  </a:lnTo>
                  <a:lnTo>
                    <a:pt x="183" y="35"/>
                  </a:lnTo>
                  <a:lnTo>
                    <a:pt x="210" y="47"/>
                  </a:lnTo>
                  <a:lnTo>
                    <a:pt x="235" y="60"/>
                  </a:lnTo>
                  <a:lnTo>
                    <a:pt x="258" y="75"/>
                  </a:lnTo>
                  <a:lnTo>
                    <a:pt x="279" y="90"/>
                  </a:lnTo>
                  <a:lnTo>
                    <a:pt x="296" y="105"/>
                  </a:lnTo>
                  <a:lnTo>
                    <a:pt x="298" y="107"/>
                  </a:lnTo>
                  <a:lnTo>
                    <a:pt x="308" y="122"/>
                  </a:lnTo>
                  <a:lnTo>
                    <a:pt x="293" y="129"/>
                  </a:lnTo>
                  <a:lnTo>
                    <a:pt x="285" y="114"/>
                  </a:lnTo>
                  <a:lnTo>
                    <a:pt x="287" y="116"/>
                  </a:lnTo>
                  <a:lnTo>
                    <a:pt x="270" y="101"/>
                  </a:lnTo>
                  <a:lnTo>
                    <a:pt x="249" y="88"/>
                  </a:lnTo>
                  <a:lnTo>
                    <a:pt x="227" y="73"/>
                  </a:lnTo>
                  <a:lnTo>
                    <a:pt x="203" y="62"/>
                  </a:lnTo>
                  <a:lnTo>
                    <a:pt x="178" y="50"/>
                  </a:lnTo>
                  <a:lnTo>
                    <a:pt x="151" y="41"/>
                  </a:lnTo>
                  <a:lnTo>
                    <a:pt x="122" y="32"/>
                  </a:lnTo>
                  <a:lnTo>
                    <a:pt x="92" y="26"/>
                  </a:lnTo>
                  <a:lnTo>
                    <a:pt x="63" y="20"/>
                  </a:lnTo>
                  <a:lnTo>
                    <a:pt x="32" y="16"/>
                  </a:lnTo>
                  <a:lnTo>
                    <a:pt x="0" y="16"/>
                  </a:lnTo>
                  <a:lnTo>
                    <a:pt x="2" y="0"/>
                  </a:lnTo>
                  <a:close/>
                  <a:moveTo>
                    <a:pt x="337" y="92"/>
                  </a:moveTo>
                  <a:lnTo>
                    <a:pt x="337" y="197"/>
                  </a:lnTo>
                  <a:lnTo>
                    <a:pt x="250" y="133"/>
                  </a:lnTo>
                  <a:lnTo>
                    <a:pt x="337" y="9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38520" y="784080"/>
              <a:ext cx="407880" cy="379440"/>
            </a:xfrm>
            <a:custGeom>
              <a:avLst/>
              <a:gdLst/>
              <a:ahLst/>
              <a:rect l="l" t="t" r="r" b="b"/>
              <a:pathLst>
                <a:path w="515" h="480">
                  <a:moveTo>
                    <a:pt x="2" y="0"/>
                  </a:moveTo>
                  <a:lnTo>
                    <a:pt x="23" y="2"/>
                  </a:lnTo>
                  <a:lnTo>
                    <a:pt x="46" y="4"/>
                  </a:lnTo>
                  <a:lnTo>
                    <a:pt x="69" y="8"/>
                  </a:lnTo>
                  <a:lnTo>
                    <a:pt x="92" y="12"/>
                  </a:lnTo>
                  <a:lnTo>
                    <a:pt x="115" y="17"/>
                  </a:lnTo>
                  <a:lnTo>
                    <a:pt x="136" y="25"/>
                  </a:lnTo>
                  <a:lnTo>
                    <a:pt x="159" y="32"/>
                  </a:lnTo>
                  <a:lnTo>
                    <a:pt x="180" y="42"/>
                  </a:lnTo>
                  <a:lnTo>
                    <a:pt x="201" y="53"/>
                  </a:lnTo>
                  <a:lnTo>
                    <a:pt x="223" y="64"/>
                  </a:lnTo>
                  <a:lnTo>
                    <a:pt x="244" y="76"/>
                  </a:lnTo>
                  <a:lnTo>
                    <a:pt x="263" y="89"/>
                  </a:lnTo>
                  <a:lnTo>
                    <a:pt x="282" y="104"/>
                  </a:lnTo>
                  <a:lnTo>
                    <a:pt x="301" y="119"/>
                  </a:lnTo>
                  <a:lnTo>
                    <a:pt x="318" y="134"/>
                  </a:lnTo>
                  <a:lnTo>
                    <a:pt x="335" y="151"/>
                  </a:lnTo>
                  <a:lnTo>
                    <a:pt x="353" y="168"/>
                  </a:lnTo>
                  <a:lnTo>
                    <a:pt x="368" y="185"/>
                  </a:lnTo>
                  <a:lnTo>
                    <a:pt x="383" y="203"/>
                  </a:lnTo>
                  <a:lnTo>
                    <a:pt x="399" y="222"/>
                  </a:lnTo>
                  <a:lnTo>
                    <a:pt x="412" y="241"/>
                  </a:lnTo>
                  <a:lnTo>
                    <a:pt x="424" y="262"/>
                  </a:lnTo>
                  <a:lnTo>
                    <a:pt x="435" y="282"/>
                  </a:lnTo>
                  <a:lnTo>
                    <a:pt x="447" y="303"/>
                  </a:lnTo>
                  <a:lnTo>
                    <a:pt x="456" y="324"/>
                  </a:lnTo>
                  <a:lnTo>
                    <a:pt x="464" y="346"/>
                  </a:lnTo>
                  <a:lnTo>
                    <a:pt x="471" y="367"/>
                  </a:lnTo>
                  <a:lnTo>
                    <a:pt x="477" y="399"/>
                  </a:lnTo>
                  <a:lnTo>
                    <a:pt x="462" y="403"/>
                  </a:lnTo>
                  <a:lnTo>
                    <a:pt x="456" y="373"/>
                  </a:lnTo>
                  <a:lnTo>
                    <a:pt x="448" y="352"/>
                  </a:lnTo>
                  <a:lnTo>
                    <a:pt x="441" y="331"/>
                  </a:lnTo>
                  <a:lnTo>
                    <a:pt x="431" y="311"/>
                  </a:lnTo>
                  <a:lnTo>
                    <a:pt x="422" y="290"/>
                  </a:lnTo>
                  <a:lnTo>
                    <a:pt x="410" y="269"/>
                  </a:lnTo>
                  <a:lnTo>
                    <a:pt x="399" y="250"/>
                  </a:lnTo>
                  <a:lnTo>
                    <a:pt x="385" y="232"/>
                  </a:lnTo>
                  <a:lnTo>
                    <a:pt x="372" y="213"/>
                  </a:lnTo>
                  <a:lnTo>
                    <a:pt x="357" y="196"/>
                  </a:lnTo>
                  <a:lnTo>
                    <a:pt x="341" y="179"/>
                  </a:lnTo>
                  <a:lnTo>
                    <a:pt x="326" y="162"/>
                  </a:lnTo>
                  <a:lnTo>
                    <a:pt x="309" y="145"/>
                  </a:lnTo>
                  <a:lnTo>
                    <a:pt x="291" y="130"/>
                  </a:lnTo>
                  <a:lnTo>
                    <a:pt x="272" y="115"/>
                  </a:lnTo>
                  <a:lnTo>
                    <a:pt x="253" y="102"/>
                  </a:lnTo>
                  <a:lnTo>
                    <a:pt x="234" y="89"/>
                  </a:lnTo>
                  <a:lnTo>
                    <a:pt x="215" y="78"/>
                  </a:lnTo>
                  <a:lnTo>
                    <a:pt x="194" y="66"/>
                  </a:lnTo>
                  <a:lnTo>
                    <a:pt x="175" y="57"/>
                  </a:lnTo>
                  <a:lnTo>
                    <a:pt x="154" y="47"/>
                  </a:lnTo>
                  <a:lnTo>
                    <a:pt x="133" y="40"/>
                  </a:lnTo>
                  <a:lnTo>
                    <a:pt x="112" y="32"/>
                  </a:lnTo>
                  <a:lnTo>
                    <a:pt x="89" y="27"/>
                  </a:lnTo>
                  <a:lnTo>
                    <a:pt x="67" y="23"/>
                  </a:lnTo>
                  <a:lnTo>
                    <a:pt x="46" y="19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515" y="380"/>
                  </a:moveTo>
                  <a:lnTo>
                    <a:pt x="481" y="480"/>
                  </a:lnTo>
                  <a:lnTo>
                    <a:pt x="420" y="391"/>
                  </a:lnTo>
                  <a:lnTo>
                    <a:pt x="515" y="380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1231920"/>
              <a:ext cx="1671480" cy="379440"/>
            </a:xfrm>
            <a:custGeom>
              <a:avLst/>
              <a:gdLst/>
              <a:ahLst/>
              <a:rect l="l" t="t" r="r" b="b"/>
              <a:pathLst>
                <a:path w="2106" h="480">
                  <a:moveTo>
                    <a:pt x="0" y="0"/>
                  </a:moveTo>
                  <a:lnTo>
                    <a:pt x="197" y="4"/>
                  </a:lnTo>
                  <a:lnTo>
                    <a:pt x="393" y="12"/>
                  </a:lnTo>
                  <a:lnTo>
                    <a:pt x="586" y="25"/>
                  </a:lnTo>
                  <a:lnTo>
                    <a:pt x="774" y="42"/>
                  </a:lnTo>
                  <a:lnTo>
                    <a:pt x="866" y="51"/>
                  </a:lnTo>
                  <a:lnTo>
                    <a:pt x="956" y="63"/>
                  </a:lnTo>
                  <a:lnTo>
                    <a:pt x="1044" y="76"/>
                  </a:lnTo>
                  <a:lnTo>
                    <a:pt x="1130" y="89"/>
                  </a:lnTo>
                  <a:lnTo>
                    <a:pt x="1214" y="102"/>
                  </a:lnTo>
                  <a:lnTo>
                    <a:pt x="1294" y="117"/>
                  </a:lnTo>
                  <a:lnTo>
                    <a:pt x="1373" y="132"/>
                  </a:lnTo>
                  <a:lnTo>
                    <a:pt x="1449" y="149"/>
                  </a:lnTo>
                  <a:lnTo>
                    <a:pt x="1522" y="166"/>
                  </a:lnTo>
                  <a:lnTo>
                    <a:pt x="1591" y="183"/>
                  </a:lnTo>
                  <a:lnTo>
                    <a:pt x="1656" y="202"/>
                  </a:lnTo>
                  <a:lnTo>
                    <a:pt x="1719" y="220"/>
                  </a:lnTo>
                  <a:lnTo>
                    <a:pt x="1777" y="239"/>
                  </a:lnTo>
                  <a:lnTo>
                    <a:pt x="1832" y="258"/>
                  </a:lnTo>
                  <a:lnTo>
                    <a:pt x="1882" y="279"/>
                  </a:lnTo>
                  <a:lnTo>
                    <a:pt x="1928" y="299"/>
                  </a:lnTo>
                  <a:lnTo>
                    <a:pt x="1968" y="320"/>
                  </a:lnTo>
                  <a:lnTo>
                    <a:pt x="2005" y="343"/>
                  </a:lnTo>
                  <a:lnTo>
                    <a:pt x="2037" y="363"/>
                  </a:lnTo>
                  <a:lnTo>
                    <a:pt x="2064" y="386"/>
                  </a:lnTo>
                  <a:lnTo>
                    <a:pt x="2066" y="388"/>
                  </a:lnTo>
                  <a:lnTo>
                    <a:pt x="2075" y="405"/>
                  </a:lnTo>
                  <a:lnTo>
                    <a:pt x="2062" y="414"/>
                  </a:lnTo>
                  <a:lnTo>
                    <a:pt x="2050" y="395"/>
                  </a:lnTo>
                  <a:lnTo>
                    <a:pt x="2052" y="397"/>
                  </a:lnTo>
                  <a:lnTo>
                    <a:pt x="2027" y="376"/>
                  </a:lnTo>
                  <a:lnTo>
                    <a:pt x="1997" y="356"/>
                  </a:lnTo>
                  <a:lnTo>
                    <a:pt x="1962" y="335"/>
                  </a:lnTo>
                  <a:lnTo>
                    <a:pt x="1920" y="314"/>
                  </a:lnTo>
                  <a:lnTo>
                    <a:pt x="1876" y="294"/>
                  </a:lnTo>
                  <a:lnTo>
                    <a:pt x="1826" y="273"/>
                  </a:lnTo>
                  <a:lnTo>
                    <a:pt x="1773" y="254"/>
                  </a:lnTo>
                  <a:lnTo>
                    <a:pt x="1714" y="235"/>
                  </a:lnTo>
                  <a:lnTo>
                    <a:pt x="1652" y="217"/>
                  </a:lnTo>
                  <a:lnTo>
                    <a:pt x="1587" y="198"/>
                  </a:lnTo>
                  <a:lnTo>
                    <a:pt x="1518" y="181"/>
                  </a:lnTo>
                  <a:lnTo>
                    <a:pt x="1446" y="164"/>
                  </a:lnTo>
                  <a:lnTo>
                    <a:pt x="1371" y="147"/>
                  </a:lnTo>
                  <a:lnTo>
                    <a:pt x="1292" y="132"/>
                  </a:lnTo>
                  <a:lnTo>
                    <a:pt x="1210" y="117"/>
                  </a:lnTo>
                  <a:lnTo>
                    <a:pt x="1128" y="104"/>
                  </a:lnTo>
                  <a:lnTo>
                    <a:pt x="1042" y="91"/>
                  </a:lnTo>
                  <a:lnTo>
                    <a:pt x="954" y="79"/>
                  </a:lnTo>
                  <a:lnTo>
                    <a:pt x="864" y="68"/>
                  </a:lnTo>
                  <a:lnTo>
                    <a:pt x="772" y="57"/>
                  </a:lnTo>
                  <a:lnTo>
                    <a:pt x="584" y="40"/>
                  </a:lnTo>
                  <a:lnTo>
                    <a:pt x="393" y="27"/>
                  </a:lnTo>
                  <a:lnTo>
                    <a:pt x="197" y="19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2104" y="375"/>
                  </a:moveTo>
                  <a:lnTo>
                    <a:pt x="2106" y="480"/>
                  </a:lnTo>
                  <a:lnTo>
                    <a:pt x="2020" y="416"/>
                  </a:lnTo>
                  <a:lnTo>
                    <a:pt x="2104" y="375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0560" y="1978200"/>
              <a:ext cx="592200" cy="83880"/>
            </a:xfrm>
            <a:custGeom>
              <a:avLst/>
              <a:gdLst/>
              <a:ahLst/>
              <a:rect l="l" t="t" r="r" b="b"/>
              <a:pathLst>
                <a:path w="744" h="107">
                  <a:moveTo>
                    <a:pt x="0" y="0"/>
                  </a:moveTo>
                  <a:lnTo>
                    <a:pt x="68" y="1"/>
                  </a:lnTo>
                  <a:lnTo>
                    <a:pt x="137" y="3"/>
                  </a:lnTo>
                  <a:lnTo>
                    <a:pt x="206" y="5"/>
                  </a:lnTo>
                  <a:lnTo>
                    <a:pt x="273" y="9"/>
                  </a:lnTo>
                  <a:lnTo>
                    <a:pt x="338" y="13"/>
                  </a:lnTo>
                  <a:lnTo>
                    <a:pt x="369" y="16"/>
                  </a:lnTo>
                  <a:lnTo>
                    <a:pt x="400" y="18"/>
                  </a:lnTo>
                  <a:lnTo>
                    <a:pt x="428" y="22"/>
                  </a:lnTo>
                  <a:lnTo>
                    <a:pt x="457" y="24"/>
                  </a:lnTo>
                  <a:lnTo>
                    <a:pt x="486" y="28"/>
                  </a:lnTo>
                  <a:lnTo>
                    <a:pt x="513" y="32"/>
                  </a:lnTo>
                  <a:lnTo>
                    <a:pt x="537" y="35"/>
                  </a:lnTo>
                  <a:lnTo>
                    <a:pt x="562" y="39"/>
                  </a:lnTo>
                  <a:lnTo>
                    <a:pt x="587" y="43"/>
                  </a:lnTo>
                  <a:lnTo>
                    <a:pt x="608" y="47"/>
                  </a:lnTo>
                  <a:lnTo>
                    <a:pt x="629" y="50"/>
                  </a:lnTo>
                  <a:lnTo>
                    <a:pt x="648" y="54"/>
                  </a:lnTo>
                  <a:lnTo>
                    <a:pt x="650" y="54"/>
                  </a:lnTo>
                  <a:lnTo>
                    <a:pt x="675" y="63"/>
                  </a:lnTo>
                  <a:lnTo>
                    <a:pt x="670" y="79"/>
                  </a:lnTo>
                  <a:lnTo>
                    <a:pt x="645" y="69"/>
                  </a:lnTo>
                  <a:lnTo>
                    <a:pt x="645" y="69"/>
                  </a:lnTo>
                  <a:lnTo>
                    <a:pt x="625" y="65"/>
                  </a:lnTo>
                  <a:lnTo>
                    <a:pt x="606" y="62"/>
                  </a:lnTo>
                  <a:lnTo>
                    <a:pt x="583" y="58"/>
                  </a:lnTo>
                  <a:lnTo>
                    <a:pt x="560" y="54"/>
                  </a:lnTo>
                  <a:lnTo>
                    <a:pt x="536" y="50"/>
                  </a:lnTo>
                  <a:lnTo>
                    <a:pt x="511" y="47"/>
                  </a:lnTo>
                  <a:lnTo>
                    <a:pt x="484" y="43"/>
                  </a:lnTo>
                  <a:lnTo>
                    <a:pt x="457" y="41"/>
                  </a:lnTo>
                  <a:lnTo>
                    <a:pt x="428" y="37"/>
                  </a:lnTo>
                  <a:lnTo>
                    <a:pt x="398" y="33"/>
                  </a:lnTo>
                  <a:lnTo>
                    <a:pt x="367" y="32"/>
                  </a:lnTo>
                  <a:lnTo>
                    <a:pt x="336" y="30"/>
                  </a:lnTo>
                  <a:lnTo>
                    <a:pt x="271" y="24"/>
                  </a:lnTo>
                  <a:lnTo>
                    <a:pt x="206" y="20"/>
                  </a:lnTo>
                  <a:lnTo>
                    <a:pt x="137" y="18"/>
                  </a:lnTo>
                  <a:lnTo>
                    <a:pt x="6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679" y="22"/>
                  </a:moveTo>
                  <a:lnTo>
                    <a:pt x="744" y="107"/>
                  </a:lnTo>
                  <a:lnTo>
                    <a:pt x="637" y="107"/>
                  </a:lnTo>
                  <a:lnTo>
                    <a:pt x="679" y="2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0000" y="1231920"/>
              <a:ext cx="249480" cy="828720"/>
            </a:xfrm>
            <a:custGeom>
              <a:avLst/>
              <a:gdLst/>
              <a:ahLst/>
              <a:rect l="l" t="t" r="r" b="b"/>
              <a:pathLst>
                <a:path w="314" h="1046">
                  <a:moveTo>
                    <a:pt x="2" y="0"/>
                  </a:moveTo>
                  <a:lnTo>
                    <a:pt x="8" y="2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7" y="12"/>
                  </a:lnTo>
                  <a:lnTo>
                    <a:pt x="42" y="16"/>
                  </a:lnTo>
                  <a:lnTo>
                    <a:pt x="56" y="27"/>
                  </a:lnTo>
                  <a:lnTo>
                    <a:pt x="69" y="40"/>
                  </a:lnTo>
                  <a:lnTo>
                    <a:pt x="82" y="55"/>
                  </a:lnTo>
                  <a:lnTo>
                    <a:pt x="94" y="74"/>
                  </a:lnTo>
                  <a:lnTo>
                    <a:pt x="105" y="94"/>
                  </a:lnTo>
                  <a:lnTo>
                    <a:pt x="119" y="117"/>
                  </a:lnTo>
                  <a:lnTo>
                    <a:pt x="130" y="141"/>
                  </a:lnTo>
                  <a:lnTo>
                    <a:pt x="142" y="170"/>
                  </a:lnTo>
                  <a:lnTo>
                    <a:pt x="151" y="198"/>
                  </a:lnTo>
                  <a:lnTo>
                    <a:pt x="163" y="228"/>
                  </a:lnTo>
                  <a:lnTo>
                    <a:pt x="172" y="262"/>
                  </a:lnTo>
                  <a:lnTo>
                    <a:pt x="184" y="296"/>
                  </a:lnTo>
                  <a:lnTo>
                    <a:pt x="194" y="331"/>
                  </a:lnTo>
                  <a:lnTo>
                    <a:pt x="201" y="369"/>
                  </a:lnTo>
                  <a:lnTo>
                    <a:pt x="211" y="408"/>
                  </a:lnTo>
                  <a:lnTo>
                    <a:pt x="218" y="448"/>
                  </a:lnTo>
                  <a:lnTo>
                    <a:pt x="228" y="489"/>
                  </a:lnTo>
                  <a:lnTo>
                    <a:pt x="234" y="531"/>
                  </a:lnTo>
                  <a:lnTo>
                    <a:pt x="241" y="576"/>
                  </a:lnTo>
                  <a:lnTo>
                    <a:pt x="247" y="619"/>
                  </a:lnTo>
                  <a:lnTo>
                    <a:pt x="253" y="664"/>
                  </a:lnTo>
                  <a:lnTo>
                    <a:pt x="259" y="711"/>
                  </a:lnTo>
                  <a:lnTo>
                    <a:pt x="262" y="758"/>
                  </a:lnTo>
                  <a:lnTo>
                    <a:pt x="270" y="852"/>
                  </a:lnTo>
                  <a:lnTo>
                    <a:pt x="272" y="901"/>
                  </a:lnTo>
                  <a:lnTo>
                    <a:pt x="274" y="950"/>
                  </a:lnTo>
                  <a:lnTo>
                    <a:pt x="276" y="969"/>
                  </a:lnTo>
                  <a:lnTo>
                    <a:pt x="259" y="969"/>
                  </a:lnTo>
                  <a:lnTo>
                    <a:pt x="259" y="950"/>
                  </a:lnTo>
                  <a:lnTo>
                    <a:pt x="257" y="901"/>
                  </a:lnTo>
                  <a:lnTo>
                    <a:pt x="255" y="854"/>
                  </a:lnTo>
                  <a:lnTo>
                    <a:pt x="247" y="760"/>
                  </a:lnTo>
                  <a:lnTo>
                    <a:pt x="243" y="713"/>
                  </a:lnTo>
                  <a:lnTo>
                    <a:pt x="238" y="666"/>
                  </a:lnTo>
                  <a:lnTo>
                    <a:pt x="232" y="621"/>
                  </a:lnTo>
                  <a:lnTo>
                    <a:pt x="226" y="578"/>
                  </a:lnTo>
                  <a:lnTo>
                    <a:pt x="218" y="534"/>
                  </a:lnTo>
                  <a:lnTo>
                    <a:pt x="211" y="491"/>
                  </a:lnTo>
                  <a:lnTo>
                    <a:pt x="203" y="452"/>
                  </a:lnTo>
                  <a:lnTo>
                    <a:pt x="195" y="410"/>
                  </a:lnTo>
                  <a:lnTo>
                    <a:pt x="186" y="373"/>
                  </a:lnTo>
                  <a:lnTo>
                    <a:pt x="178" y="335"/>
                  </a:lnTo>
                  <a:lnTo>
                    <a:pt x="169" y="299"/>
                  </a:lnTo>
                  <a:lnTo>
                    <a:pt x="157" y="266"/>
                  </a:lnTo>
                  <a:lnTo>
                    <a:pt x="148" y="234"/>
                  </a:lnTo>
                  <a:lnTo>
                    <a:pt x="138" y="204"/>
                  </a:lnTo>
                  <a:lnTo>
                    <a:pt x="127" y="175"/>
                  </a:lnTo>
                  <a:lnTo>
                    <a:pt x="115" y="149"/>
                  </a:lnTo>
                  <a:lnTo>
                    <a:pt x="104" y="125"/>
                  </a:lnTo>
                  <a:lnTo>
                    <a:pt x="92" y="102"/>
                  </a:lnTo>
                  <a:lnTo>
                    <a:pt x="81" y="83"/>
                  </a:lnTo>
                  <a:lnTo>
                    <a:pt x="69" y="66"/>
                  </a:lnTo>
                  <a:lnTo>
                    <a:pt x="58" y="51"/>
                  </a:lnTo>
                  <a:lnTo>
                    <a:pt x="46" y="38"/>
                  </a:lnTo>
                  <a:lnTo>
                    <a:pt x="35" y="29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314" y="952"/>
                  </a:moveTo>
                  <a:lnTo>
                    <a:pt x="268" y="1046"/>
                  </a:lnTo>
                  <a:lnTo>
                    <a:pt x="218" y="954"/>
                  </a:lnTo>
                  <a:lnTo>
                    <a:pt x="314" y="952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0000" y="784080"/>
              <a:ext cx="250920" cy="1276560"/>
            </a:xfrm>
            <a:custGeom>
              <a:avLst/>
              <a:gdLst/>
              <a:ahLst/>
              <a:rect l="l" t="t" r="r" b="b"/>
              <a:pathLst>
                <a:path w="316" h="1610">
                  <a:moveTo>
                    <a:pt x="2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31" y="12"/>
                  </a:lnTo>
                  <a:lnTo>
                    <a:pt x="38" y="17"/>
                  </a:lnTo>
                  <a:lnTo>
                    <a:pt x="44" y="25"/>
                  </a:lnTo>
                  <a:lnTo>
                    <a:pt x="52" y="32"/>
                  </a:lnTo>
                  <a:lnTo>
                    <a:pt x="58" y="40"/>
                  </a:lnTo>
                  <a:lnTo>
                    <a:pt x="63" y="49"/>
                  </a:lnTo>
                  <a:lnTo>
                    <a:pt x="71" y="61"/>
                  </a:lnTo>
                  <a:lnTo>
                    <a:pt x="77" y="72"/>
                  </a:lnTo>
                  <a:lnTo>
                    <a:pt x="82" y="85"/>
                  </a:lnTo>
                  <a:lnTo>
                    <a:pt x="88" y="98"/>
                  </a:lnTo>
                  <a:lnTo>
                    <a:pt x="96" y="113"/>
                  </a:lnTo>
                  <a:lnTo>
                    <a:pt x="102" y="128"/>
                  </a:lnTo>
                  <a:lnTo>
                    <a:pt x="107" y="143"/>
                  </a:lnTo>
                  <a:lnTo>
                    <a:pt x="113" y="160"/>
                  </a:lnTo>
                  <a:lnTo>
                    <a:pt x="119" y="179"/>
                  </a:lnTo>
                  <a:lnTo>
                    <a:pt x="125" y="198"/>
                  </a:lnTo>
                  <a:lnTo>
                    <a:pt x="130" y="217"/>
                  </a:lnTo>
                  <a:lnTo>
                    <a:pt x="136" y="237"/>
                  </a:lnTo>
                  <a:lnTo>
                    <a:pt x="142" y="258"/>
                  </a:lnTo>
                  <a:lnTo>
                    <a:pt x="148" y="281"/>
                  </a:lnTo>
                  <a:lnTo>
                    <a:pt x="153" y="303"/>
                  </a:lnTo>
                  <a:lnTo>
                    <a:pt x="157" y="326"/>
                  </a:lnTo>
                  <a:lnTo>
                    <a:pt x="163" y="350"/>
                  </a:lnTo>
                  <a:lnTo>
                    <a:pt x="172" y="401"/>
                  </a:lnTo>
                  <a:lnTo>
                    <a:pt x="184" y="454"/>
                  </a:lnTo>
                  <a:lnTo>
                    <a:pt x="194" y="508"/>
                  </a:lnTo>
                  <a:lnTo>
                    <a:pt x="201" y="566"/>
                  </a:lnTo>
                  <a:lnTo>
                    <a:pt x="211" y="627"/>
                  </a:lnTo>
                  <a:lnTo>
                    <a:pt x="218" y="687"/>
                  </a:lnTo>
                  <a:lnTo>
                    <a:pt x="228" y="751"/>
                  </a:lnTo>
                  <a:lnTo>
                    <a:pt x="234" y="816"/>
                  </a:lnTo>
                  <a:lnTo>
                    <a:pt x="241" y="884"/>
                  </a:lnTo>
                  <a:lnTo>
                    <a:pt x="247" y="952"/>
                  </a:lnTo>
                  <a:lnTo>
                    <a:pt x="253" y="1021"/>
                  </a:lnTo>
                  <a:lnTo>
                    <a:pt x="259" y="1093"/>
                  </a:lnTo>
                  <a:lnTo>
                    <a:pt x="262" y="1164"/>
                  </a:lnTo>
                  <a:lnTo>
                    <a:pt x="266" y="1238"/>
                  </a:lnTo>
                  <a:lnTo>
                    <a:pt x="270" y="1311"/>
                  </a:lnTo>
                  <a:lnTo>
                    <a:pt x="272" y="1386"/>
                  </a:lnTo>
                  <a:lnTo>
                    <a:pt x="274" y="1461"/>
                  </a:lnTo>
                  <a:lnTo>
                    <a:pt x="276" y="1533"/>
                  </a:lnTo>
                  <a:lnTo>
                    <a:pt x="261" y="1533"/>
                  </a:lnTo>
                  <a:lnTo>
                    <a:pt x="259" y="1461"/>
                  </a:lnTo>
                  <a:lnTo>
                    <a:pt x="257" y="1386"/>
                  </a:lnTo>
                  <a:lnTo>
                    <a:pt x="255" y="1313"/>
                  </a:lnTo>
                  <a:lnTo>
                    <a:pt x="251" y="1239"/>
                  </a:lnTo>
                  <a:lnTo>
                    <a:pt x="247" y="1166"/>
                  </a:lnTo>
                  <a:lnTo>
                    <a:pt x="243" y="1095"/>
                  </a:lnTo>
                  <a:lnTo>
                    <a:pt x="238" y="1023"/>
                  </a:lnTo>
                  <a:lnTo>
                    <a:pt x="232" y="954"/>
                  </a:lnTo>
                  <a:lnTo>
                    <a:pt x="226" y="886"/>
                  </a:lnTo>
                  <a:lnTo>
                    <a:pt x="218" y="818"/>
                  </a:lnTo>
                  <a:lnTo>
                    <a:pt x="211" y="752"/>
                  </a:lnTo>
                  <a:lnTo>
                    <a:pt x="203" y="690"/>
                  </a:lnTo>
                  <a:lnTo>
                    <a:pt x="195" y="628"/>
                  </a:lnTo>
                  <a:lnTo>
                    <a:pt x="186" y="568"/>
                  </a:lnTo>
                  <a:lnTo>
                    <a:pt x="178" y="512"/>
                  </a:lnTo>
                  <a:lnTo>
                    <a:pt x="167" y="455"/>
                  </a:lnTo>
                  <a:lnTo>
                    <a:pt x="157" y="403"/>
                  </a:lnTo>
                  <a:lnTo>
                    <a:pt x="148" y="354"/>
                  </a:lnTo>
                  <a:lnTo>
                    <a:pt x="142" y="329"/>
                  </a:lnTo>
                  <a:lnTo>
                    <a:pt x="136" y="307"/>
                  </a:lnTo>
                  <a:lnTo>
                    <a:pt x="132" y="284"/>
                  </a:lnTo>
                  <a:lnTo>
                    <a:pt x="127" y="262"/>
                  </a:lnTo>
                  <a:lnTo>
                    <a:pt x="121" y="241"/>
                  </a:lnTo>
                  <a:lnTo>
                    <a:pt x="115" y="222"/>
                  </a:lnTo>
                  <a:lnTo>
                    <a:pt x="109" y="202"/>
                  </a:lnTo>
                  <a:lnTo>
                    <a:pt x="104" y="185"/>
                  </a:lnTo>
                  <a:lnTo>
                    <a:pt x="98" y="166"/>
                  </a:lnTo>
                  <a:lnTo>
                    <a:pt x="92" y="149"/>
                  </a:lnTo>
                  <a:lnTo>
                    <a:pt x="86" y="134"/>
                  </a:lnTo>
                  <a:lnTo>
                    <a:pt x="81" y="119"/>
                  </a:lnTo>
                  <a:lnTo>
                    <a:pt x="75" y="104"/>
                  </a:lnTo>
                  <a:lnTo>
                    <a:pt x="69" y="93"/>
                  </a:lnTo>
                  <a:lnTo>
                    <a:pt x="63" y="79"/>
                  </a:lnTo>
                  <a:lnTo>
                    <a:pt x="56" y="68"/>
                  </a:lnTo>
                  <a:lnTo>
                    <a:pt x="50" y="59"/>
                  </a:lnTo>
                  <a:lnTo>
                    <a:pt x="44" y="49"/>
                  </a:lnTo>
                  <a:lnTo>
                    <a:pt x="38" y="42"/>
                  </a:lnTo>
                  <a:lnTo>
                    <a:pt x="33" y="34"/>
                  </a:lnTo>
                  <a:lnTo>
                    <a:pt x="27" y="29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2" y="0"/>
                  </a:lnTo>
                  <a:close/>
                  <a:moveTo>
                    <a:pt x="316" y="1516"/>
                  </a:moveTo>
                  <a:lnTo>
                    <a:pt x="268" y="1610"/>
                  </a:lnTo>
                  <a:lnTo>
                    <a:pt x="220" y="1518"/>
                  </a:lnTo>
                  <a:lnTo>
                    <a:pt x="316" y="1516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5720" y="1231920"/>
              <a:ext cx="790560" cy="677880"/>
            </a:xfrm>
            <a:custGeom>
              <a:avLst/>
              <a:gdLst/>
              <a:ahLst/>
              <a:rect l="l" t="t" r="r" b="b"/>
              <a:pathLst>
                <a:path w="995" h="856">
                  <a:moveTo>
                    <a:pt x="0" y="0"/>
                  </a:moveTo>
                  <a:lnTo>
                    <a:pt x="44" y="2"/>
                  </a:lnTo>
                  <a:lnTo>
                    <a:pt x="90" y="6"/>
                  </a:lnTo>
                  <a:lnTo>
                    <a:pt x="134" y="12"/>
                  </a:lnTo>
                  <a:lnTo>
                    <a:pt x="180" y="21"/>
                  </a:lnTo>
                  <a:lnTo>
                    <a:pt x="224" y="31"/>
                  </a:lnTo>
                  <a:lnTo>
                    <a:pt x="268" y="44"/>
                  </a:lnTo>
                  <a:lnTo>
                    <a:pt x="310" y="59"/>
                  </a:lnTo>
                  <a:lnTo>
                    <a:pt x="354" y="74"/>
                  </a:lnTo>
                  <a:lnTo>
                    <a:pt x="396" y="93"/>
                  </a:lnTo>
                  <a:lnTo>
                    <a:pt x="436" y="113"/>
                  </a:lnTo>
                  <a:lnTo>
                    <a:pt x="476" y="136"/>
                  </a:lnTo>
                  <a:lnTo>
                    <a:pt x="517" y="158"/>
                  </a:lnTo>
                  <a:lnTo>
                    <a:pt x="555" y="183"/>
                  </a:lnTo>
                  <a:lnTo>
                    <a:pt x="591" y="211"/>
                  </a:lnTo>
                  <a:lnTo>
                    <a:pt x="628" y="237"/>
                  </a:lnTo>
                  <a:lnTo>
                    <a:pt x="662" y="267"/>
                  </a:lnTo>
                  <a:lnTo>
                    <a:pt x="695" y="298"/>
                  </a:lnTo>
                  <a:lnTo>
                    <a:pt x="727" y="329"/>
                  </a:lnTo>
                  <a:lnTo>
                    <a:pt x="758" y="363"/>
                  </a:lnTo>
                  <a:lnTo>
                    <a:pt x="786" y="397"/>
                  </a:lnTo>
                  <a:lnTo>
                    <a:pt x="813" y="431"/>
                  </a:lnTo>
                  <a:lnTo>
                    <a:pt x="836" y="467"/>
                  </a:lnTo>
                  <a:lnTo>
                    <a:pt x="859" y="504"/>
                  </a:lnTo>
                  <a:lnTo>
                    <a:pt x="880" y="540"/>
                  </a:lnTo>
                  <a:lnTo>
                    <a:pt x="899" y="578"/>
                  </a:lnTo>
                  <a:lnTo>
                    <a:pt x="917" y="617"/>
                  </a:lnTo>
                  <a:lnTo>
                    <a:pt x="930" y="657"/>
                  </a:lnTo>
                  <a:lnTo>
                    <a:pt x="941" y="696"/>
                  </a:lnTo>
                  <a:lnTo>
                    <a:pt x="951" y="736"/>
                  </a:lnTo>
                  <a:lnTo>
                    <a:pt x="957" y="777"/>
                  </a:lnTo>
                  <a:lnTo>
                    <a:pt x="941" y="779"/>
                  </a:lnTo>
                  <a:lnTo>
                    <a:pt x="936" y="737"/>
                  </a:lnTo>
                  <a:lnTo>
                    <a:pt x="926" y="700"/>
                  </a:lnTo>
                  <a:lnTo>
                    <a:pt x="915" y="660"/>
                  </a:lnTo>
                  <a:lnTo>
                    <a:pt x="901" y="623"/>
                  </a:lnTo>
                  <a:lnTo>
                    <a:pt x="886" y="585"/>
                  </a:lnTo>
                  <a:lnTo>
                    <a:pt x="867" y="548"/>
                  </a:lnTo>
                  <a:lnTo>
                    <a:pt x="846" y="512"/>
                  </a:lnTo>
                  <a:lnTo>
                    <a:pt x="825" y="476"/>
                  </a:lnTo>
                  <a:lnTo>
                    <a:pt x="800" y="440"/>
                  </a:lnTo>
                  <a:lnTo>
                    <a:pt x="773" y="407"/>
                  </a:lnTo>
                  <a:lnTo>
                    <a:pt x="746" y="373"/>
                  </a:lnTo>
                  <a:lnTo>
                    <a:pt x="716" y="341"/>
                  </a:lnTo>
                  <a:lnTo>
                    <a:pt x="685" y="309"/>
                  </a:lnTo>
                  <a:lnTo>
                    <a:pt x="652" y="279"/>
                  </a:lnTo>
                  <a:lnTo>
                    <a:pt x="618" y="251"/>
                  </a:lnTo>
                  <a:lnTo>
                    <a:pt x="582" y="222"/>
                  </a:lnTo>
                  <a:lnTo>
                    <a:pt x="545" y="196"/>
                  </a:lnTo>
                  <a:lnTo>
                    <a:pt x="509" y="172"/>
                  </a:lnTo>
                  <a:lnTo>
                    <a:pt x="469" y="149"/>
                  </a:lnTo>
                  <a:lnTo>
                    <a:pt x="430" y="126"/>
                  </a:lnTo>
                  <a:lnTo>
                    <a:pt x="388" y="108"/>
                  </a:lnTo>
                  <a:lnTo>
                    <a:pt x="348" y="89"/>
                  </a:lnTo>
                  <a:lnTo>
                    <a:pt x="306" y="74"/>
                  </a:lnTo>
                  <a:lnTo>
                    <a:pt x="262" y="59"/>
                  </a:lnTo>
                  <a:lnTo>
                    <a:pt x="220" y="46"/>
                  </a:lnTo>
                  <a:lnTo>
                    <a:pt x="176" y="36"/>
                  </a:lnTo>
                  <a:lnTo>
                    <a:pt x="132" y="27"/>
                  </a:lnTo>
                  <a:lnTo>
                    <a:pt x="88" y="21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995" y="758"/>
                  </a:moveTo>
                  <a:lnTo>
                    <a:pt x="957" y="856"/>
                  </a:lnTo>
                  <a:lnTo>
                    <a:pt x="901" y="766"/>
                  </a:lnTo>
                  <a:lnTo>
                    <a:pt x="995" y="758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95720" y="1679400"/>
              <a:ext cx="1430280" cy="382680"/>
            </a:xfrm>
            <a:custGeom>
              <a:avLst/>
              <a:gdLst/>
              <a:ahLst/>
              <a:rect l="l" t="t" r="r" b="b"/>
              <a:pathLst>
                <a:path w="1803" h="483">
                  <a:moveTo>
                    <a:pt x="0" y="0"/>
                  </a:moveTo>
                  <a:lnTo>
                    <a:pt x="84" y="1"/>
                  </a:lnTo>
                  <a:lnTo>
                    <a:pt x="168" y="3"/>
                  </a:lnTo>
                  <a:lnTo>
                    <a:pt x="252" y="7"/>
                  </a:lnTo>
                  <a:lnTo>
                    <a:pt x="335" y="11"/>
                  </a:lnTo>
                  <a:lnTo>
                    <a:pt x="417" y="16"/>
                  </a:lnTo>
                  <a:lnTo>
                    <a:pt x="499" y="24"/>
                  </a:lnTo>
                  <a:lnTo>
                    <a:pt x="580" y="31"/>
                  </a:lnTo>
                  <a:lnTo>
                    <a:pt x="660" y="41"/>
                  </a:lnTo>
                  <a:lnTo>
                    <a:pt x="739" y="52"/>
                  </a:lnTo>
                  <a:lnTo>
                    <a:pt x="815" y="63"/>
                  </a:lnTo>
                  <a:lnTo>
                    <a:pt x="892" y="75"/>
                  </a:lnTo>
                  <a:lnTo>
                    <a:pt x="964" y="88"/>
                  </a:lnTo>
                  <a:lnTo>
                    <a:pt x="1035" y="101"/>
                  </a:lnTo>
                  <a:lnTo>
                    <a:pt x="1106" y="116"/>
                  </a:lnTo>
                  <a:lnTo>
                    <a:pt x="1173" y="133"/>
                  </a:lnTo>
                  <a:lnTo>
                    <a:pt x="1238" y="148"/>
                  </a:lnTo>
                  <a:lnTo>
                    <a:pt x="1299" y="165"/>
                  </a:lnTo>
                  <a:lnTo>
                    <a:pt x="1330" y="174"/>
                  </a:lnTo>
                  <a:lnTo>
                    <a:pt x="1359" y="184"/>
                  </a:lnTo>
                  <a:lnTo>
                    <a:pt x="1388" y="193"/>
                  </a:lnTo>
                  <a:lnTo>
                    <a:pt x="1414" y="203"/>
                  </a:lnTo>
                  <a:lnTo>
                    <a:pt x="1443" y="212"/>
                  </a:lnTo>
                  <a:lnTo>
                    <a:pt x="1468" y="221"/>
                  </a:lnTo>
                  <a:lnTo>
                    <a:pt x="1495" y="231"/>
                  </a:lnTo>
                  <a:lnTo>
                    <a:pt x="1518" y="240"/>
                  </a:lnTo>
                  <a:lnTo>
                    <a:pt x="1543" y="250"/>
                  </a:lnTo>
                  <a:lnTo>
                    <a:pt x="1566" y="261"/>
                  </a:lnTo>
                  <a:lnTo>
                    <a:pt x="1587" y="270"/>
                  </a:lnTo>
                  <a:lnTo>
                    <a:pt x="1608" y="280"/>
                  </a:lnTo>
                  <a:lnTo>
                    <a:pt x="1629" y="291"/>
                  </a:lnTo>
                  <a:lnTo>
                    <a:pt x="1648" y="302"/>
                  </a:lnTo>
                  <a:lnTo>
                    <a:pt x="1665" y="312"/>
                  </a:lnTo>
                  <a:lnTo>
                    <a:pt x="1682" y="323"/>
                  </a:lnTo>
                  <a:lnTo>
                    <a:pt x="1698" y="334"/>
                  </a:lnTo>
                  <a:lnTo>
                    <a:pt x="1713" y="344"/>
                  </a:lnTo>
                  <a:lnTo>
                    <a:pt x="1728" y="355"/>
                  </a:lnTo>
                  <a:lnTo>
                    <a:pt x="1740" y="366"/>
                  </a:lnTo>
                  <a:lnTo>
                    <a:pt x="1753" y="377"/>
                  </a:lnTo>
                  <a:lnTo>
                    <a:pt x="1763" y="389"/>
                  </a:lnTo>
                  <a:lnTo>
                    <a:pt x="1765" y="391"/>
                  </a:lnTo>
                  <a:lnTo>
                    <a:pt x="1772" y="408"/>
                  </a:lnTo>
                  <a:lnTo>
                    <a:pt x="1759" y="413"/>
                  </a:lnTo>
                  <a:lnTo>
                    <a:pt x="1749" y="398"/>
                  </a:lnTo>
                  <a:lnTo>
                    <a:pt x="1751" y="400"/>
                  </a:lnTo>
                  <a:lnTo>
                    <a:pt x="1742" y="389"/>
                  </a:lnTo>
                  <a:lnTo>
                    <a:pt x="1730" y="377"/>
                  </a:lnTo>
                  <a:lnTo>
                    <a:pt x="1717" y="368"/>
                  </a:lnTo>
                  <a:lnTo>
                    <a:pt x="1703" y="357"/>
                  </a:lnTo>
                  <a:lnTo>
                    <a:pt x="1690" y="345"/>
                  </a:lnTo>
                  <a:lnTo>
                    <a:pt x="1673" y="336"/>
                  </a:lnTo>
                  <a:lnTo>
                    <a:pt x="1657" y="325"/>
                  </a:lnTo>
                  <a:lnTo>
                    <a:pt x="1638" y="315"/>
                  </a:lnTo>
                  <a:lnTo>
                    <a:pt x="1621" y="304"/>
                  </a:lnTo>
                  <a:lnTo>
                    <a:pt x="1600" y="295"/>
                  </a:lnTo>
                  <a:lnTo>
                    <a:pt x="1581" y="285"/>
                  </a:lnTo>
                  <a:lnTo>
                    <a:pt x="1558" y="274"/>
                  </a:lnTo>
                  <a:lnTo>
                    <a:pt x="1535" y="265"/>
                  </a:lnTo>
                  <a:lnTo>
                    <a:pt x="1512" y="255"/>
                  </a:lnTo>
                  <a:lnTo>
                    <a:pt x="1487" y="246"/>
                  </a:lnTo>
                  <a:lnTo>
                    <a:pt x="1462" y="235"/>
                  </a:lnTo>
                  <a:lnTo>
                    <a:pt x="1437" y="225"/>
                  </a:lnTo>
                  <a:lnTo>
                    <a:pt x="1410" y="218"/>
                  </a:lnTo>
                  <a:lnTo>
                    <a:pt x="1382" y="208"/>
                  </a:lnTo>
                  <a:lnTo>
                    <a:pt x="1355" y="199"/>
                  </a:lnTo>
                  <a:lnTo>
                    <a:pt x="1324" y="189"/>
                  </a:lnTo>
                  <a:lnTo>
                    <a:pt x="1296" y="180"/>
                  </a:lnTo>
                  <a:lnTo>
                    <a:pt x="1234" y="163"/>
                  </a:lnTo>
                  <a:lnTo>
                    <a:pt x="1169" y="148"/>
                  </a:lnTo>
                  <a:lnTo>
                    <a:pt x="1102" y="133"/>
                  </a:lnTo>
                  <a:lnTo>
                    <a:pt x="1033" y="118"/>
                  </a:lnTo>
                  <a:lnTo>
                    <a:pt x="963" y="103"/>
                  </a:lnTo>
                  <a:lnTo>
                    <a:pt x="888" y="90"/>
                  </a:lnTo>
                  <a:lnTo>
                    <a:pt x="813" y="78"/>
                  </a:lnTo>
                  <a:lnTo>
                    <a:pt x="737" y="67"/>
                  </a:lnTo>
                  <a:lnTo>
                    <a:pt x="658" y="56"/>
                  </a:lnTo>
                  <a:lnTo>
                    <a:pt x="580" y="48"/>
                  </a:lnTo>
                  <a:lnTo>
                    <a:pt x="497" y="39"/>
                  </a:lnTo>
                  <a:lnTo>
                    <a:pt x="417" y="33"/>
                  </a:lnTo>
                  <a:lnTo>
                    <a:pt x="335" y="26"/>
                  </a:lnTo>
                  <a:lnTo>
                    <a:pt x="250" y="22"/>
                  </a:lnTo>
                  <a:lnTo>
                    <a:pt x="168" y="18"/>
                  </a:lnTo>
                  <a:lnTo>
                    <a:pt x="8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803" y="377"/>
                  </a:moveTo>
                  <a:lnTo>
                    <a:pt x="1797" y="483"/>
                  </a:lnTo>
                  <a:lnTo>
                    <a:pt x="1715" y="415"/>
                  </a:lnTo>
                  <a:lnTo>
                    <a:pt x="1803" y="377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7800" y="1233360"/>
              <a:ext cx="260640" cy="412920"/>
            </a:xfrm>
            <a:custGeom>
              <a:avLst/>
              <a:gdLst/>
              <a:ahLst/>
              <a:rect l="l" t="t" r="r" b="b"/>
              <a:pathLst>
                <a:path w="328" h="521">
                  <a:moveTo>
                    <a:pt x="0" y="0"/>
                  </a:moveTo>
                  <a:lnTo>
                    <a:pt x="14" y="0"/>
                  </a:lnTo>
                  <a:lnTo>
                    <a:pt x="27" y="2"/>
                  </a:lnTo>
                  <a:lnTo>
                    <a:pt x="43" y="6"/>
                  </a:lnTo>
                  <a:lnTo>
                    <a:pt x="56" y="12"/>
                  </a:lnTo>
                  <a:lnTo>
                    <a:pt x="69" y="19"/>
                  </a:lnTo>
                  <a:lnTo>
                    <a:pt x="85" y="27"/>
                  </a:lnTo>
                  <a:lnTo>
                    <a:pt x="98" y="36"/>
                  </a:lnTo>
                  <a:lnTo>
                    <a:pt x="110" y="45"/>
                  </a:lnTo>
                  <a:lnTo>
                    <a:pt x="123" y="57"/>
                  </a:lnTo>
                  <a:lnTo>
                    <a:pt x="136" y="70"/>
                  </a:lnTo>
                  <a:lnTo>
                    <a:pt x="148" y="83"/>
                  </a:lnTo>
                  <a:lnTo>
                    <a:pt x="159" y="96"/>
                  </a:lnTo>
                  <a:lnTo>
                    <a:pt x="171" y="113"/>
                  </a:lnTo>
                  <a:lnTo>
                    <a:pt x="182" y="128"/>
                  </a:lnTo>
                  <a:lnTo>
                    <a:pt x="194" y="145"/>
                  </a:lnTo>
                  <a:lnTo>
                    <a:pt x="203" y="164"/>
                  </a:lnTo>
                  <a:lnTo>
                    <a:pt x="215" y="183"/>
                  </a:lnTo>
                  <a:lnTo>
                    <a:pt x="224" y="202"/>
                  </a:lnTo>
                  <a:lnTo>
                    <a:pt x="242" y="243"/>
                  </a:lnTo>
                  <a:lnTo>
                    <a:pt x="257" y="286"/>
                  </a:lnTo>
                  <a:lnTo>
                    <a:pt x="270" y="329"/>
                  </a:lnTo>
                  <a:lnTo>
                    <a:pt x="280" y="376"/>
                  </a:lnTo>
                  <a:lnTo>
                    <a:pt x="286" y="401"/>
                  </a:lnTo>
                  <a:lnTo>
                    <a:pt x="288" y="423"/>
                  </a:lnTo>
                  <a:lnTo>
                    <a:pt x="290" y="442"/>
                  </a:lnTo>
                  <a:lnTo>
                    <a:pt x="274" y="442"/>
                  </a:lnTo>
                  <a:lnTo>
                    <a:pt x="272" y="425"/>
                  </a:lnTo>
                  <a:lnTo>
                    <a:pt x="268" y="403"/>
                  </a:lnTo>
                  <a:lnTo>
                    <a:pt x="265" y="380"/>
                  </a:lnTo>
                  <a:lnTo>
                    <a:pt x="255" y="335"/>
                  </a:lnTo>
                  <a:lnTo>
                    <a:pt x="242" y="290"/>
                  </a:lnTo>
                  <a:lnTo>
                    <a:pt x="226" y="249"/>
                  </a:lnTo>
                  <a:lnTo>
                    <a:pt x="209" y="209"/>
                  </a:lnTo>
                  <a:lnTo>
                    <a:pt x="200" y="190"/>
                  </a:lnTo>
                  <a:lnTo>
                    <a:pt x="190" y="171"/>
                  </a:lnTo>
                  <a:lnTo>
                    <a:pt x="180" y="155"/>
                  </a:lnTo>
                  <a:lnTo>
                    <a:pt x="169" y="138"/>
                  </a:lnTo>
                  <a:lnTo>
                    <a:pt x="159" y="123"/>
                  </a:lnTo>
                  <a:lnTo>
                    <a:pt x="148" y="108"/>
                  </a:lnTo>
                  <a:lnTo>
                    <a:pt x="136" y="92"/>
                  </a:lnTo>
                  <a:lnTo>
                    <a:pt x="125" y="79"/>
                  </a:lnTo>
                  <a:lnTo>
                    <a:pt x="113" y="68"/>
                  </a:lnTo>
                  <a:lnTo>
                    <a:pt x="100" y="57"/>
                  </a:lnTo>
                  <a:lnTo>
                    <a:pt x="89" y="47"/>
                  </a:lnTo>
                  <a:lnTo>
                    <a:pt x="75" y="40"/>
                  </a:lnTo>
                  <a:lnTo>
                    <a:pt x="64" y="32"/>
                  </a:lnTo>
                  <a:lnTo>
                    <a:pt x="50" y="27"/>
                  </a:lnTo>
                  <a:lnTo>
                    <a:pt x="39" y="21"/>
                  </a:lnTo>
                  <a:lnTo>
                    <a:pt x="25" y="17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28" y="423"/>
                  </a:moveTo>
                  <a:lnTo>
                    <a:pt x="288" y="521"/>
                  </a:lnTo>
                  <a:lnTo>
                    <a:pt x="234" y="429"/>
                  </a:lnTo>
                  <a:lnTo>
                    <a:pt x="328" y="423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0200" y="785880"/>
              <a:ext cx="390600" cy="228600"/>
            </a:xfrm>
            <a:custGeom>
              <a:avLst/>
              <a:gdLst/>
              <a:ahLst/>
              <a:rect l="l" t="t" r="r" b="b"/>
              <a:pathLst>
                <a:path w="492" h="290">
                  <a:moveTo>
                    <a:pt x="0" y="0"/>
                  </a:moveTo>
                  <a:lnTo>
                    <a:pt x="21" y="0"/>
                  </a:lnTo>
                  <a:lnTo>
                    <a:pt x="44" y="0"/>
                  </a:lnTo>
                  <a:lnTo>
                    <a:pt x="67" y="4"/>
                  </a:lnTo>
                  <a:lnTo>
                    <a:pt x="90" y="6"/>
                  </a:lnTo>
                  <a:lnTo>
                    <a:pt x="113" y="10"/>
                  </a:lnTo>
                  <a:lnTo>
                    <a:pt x="134" y="13"/>
                  </a:lnTo>
                  <a:lnTo>
                    <a:pt x="178" y="25"/>
                  </a:lnTo>
                  <a:lnTo>
                    <a:pt x="218" y="36"/>
                  </a:lnTo>
                  <a:lnTo>
                    <a:pt x="258" y="53"/>
                  </a:lnTo>
                  <a:lnTo>
                    <a:pt x="296" y="70"/>
                  </a:lnTo>
                  <a:lnTo>
                    <a:pt x="333" y="89"/>
                  </a:lnTo>
                  <a:lnTo>
                    <a:pt x="348" y="98"/>
                  </a:lnTo>
                  <a:lnTo>
                    <a:pt x="365" y="109"/>
                  </a:lnTo>
                  <a:lnTo>
                    <a:pt x="381" y="121"/>
                  </a:lnTo>
                  <a:lnTo>
                    <a:pt x="394" y="132"/>
                  </a:lnTo>
                  <a:lnTo>
                    <a:pt x="407" y="143"/>
                  </a:lnTo>
                  <a:lnTo>
                    <a:pt x="421" y="156"/>
                  </a:lnTo>
                  <a:lnTo>
                    <a:pt x="432" y="168"/>
                  </a:lnTo>
                  <a:lnTo>
                    <a:pt x="442" y="181"/>
                  </a:lnTo>
                  <a:lnTo>
                    <a:pt x="451" y="194"/>
                  </a:lnTo>
                  <a:lnTo>
                    <a:pt x="453" y="194"/>
                  </a:lnTo>
                  <a:lnTo>
                    <a:pt x="453" y="196"/>
                  </a:lnTo>
                  <a:lnTo>
                    <a:pt x="459" y="213"/>
                  </a:lnTo>
                  <a:lnTo>
                    <a:pt x="446" y="218"/>
                  </a:lnTo>
                  <a:lnTo>
                    <a:pt x="438" y="201"/>
                  </a:lnTo>
                  <a:lnTo>
                    <a:pt x="440" y="203"/>
                  </a:lnTo>
                  <a:lnTo>
                    <a:pt x="430" y="190"/>
                  </a:lnTo>
                  <a:lnTo>
                    <a:pt x="421" y="179"/>
                  </a:lnTo>
                  <a:lnTo>
                    <a:pt x="409" y="168"/>
                  </a:lnTo>
                  <a:lnTo>
                    <a:pt x="398" y="156"/>
                  </a:lnTo>
                  <a:lnTo>
                    <a:pt x="384" y="145"/>
                  </a:lnTo>
                  <a:lnTo>
                    <a:pt x="371" y="134"/>
                  </a:lnTo>
                  <a:lnTo>
                    <a:pt x="356" y="123"/>
                  </a:lnTo>
                  <a:lnTo>
                    <a:pt x="340" y="113"/>
                  </a:lnTo>
                  <a:lnTo>
                    <a:pt x="325" y="102"/>
                  </a:lnTo>
                  <a:lnTo>
                    <a:pt x="291" y="83"/>
                  </a:lnTo>
                  <a:lnTo>
                    <a:pt x="252" y="66"/>
                  </a:lnTo>
                  <a:lnTo>
                    <a:pt x="214" y="51"/>
                  </a:lnTo>
                  <a:lnTo>
                    <a:pt x="174" y="40"/>
                  </a:lnTo>
                  <a:lnTo>
                    <a:pt x="130" y="29"/>
                  </a:lnTo>
                  <a:lnTo>
                    <a:pt x="109" y="25"/>
                  </a:lnTo>
                  <a:lnTo>
                    <a:pt x="88" y="21"/>
                  </a:lnTo>
                  <a:lnTo>
                    <a:pt x="65" y="19"/>
                  </a:lnTo>
                  <a:lnTo>
                    <a:pt x="44" y="17"/>
                  </a:lnTo>
                  <a:lnTo>
                    <a:pt x="2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492" y="185"/>
                  </a:moveTo>
                  <a:lnTo>
                    <a:pt x="478" y="290"/>
                  </a:lnTo>
                  <a:lnTo>
                    <a:pt x="402" y="215"/>
                  </a:lnTo>
                  <a:lnTo>
                    <a:pt x="492" y="185"/>
                  </a:lnTo>
                  <a:close/>
                </a:path>
              </a:pathLst>
            </a:custGeom>
            <a:solidFill>
              <a:srgbClr val="969696"/>
            </a:solidFill>
            <a:ln w="1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30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3080" y="1163520"/>
              <a:ext cx="152640" cy="14940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64680" y="1071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86160" y="1071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33680" y="107172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6360" y="1251000"/>
              <a:ext cx="115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ple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3080" y="161136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3080" y="1611360"/>
              <a:ext cx="152640" cy="149040"/>
            </a:xfrm>
            <a:custGeom>
              <a:avLst/>
              <a:gdLst/>
              <a:ahLst/>
              <a:rect l="l" t="t" r="r" b="b"/>
              <a:pathLst>
                <a:path w="192" h="188">
                  <a:moveTo>
                    <a:pt x="96" y="0"/>
                  </a:moveTo>
                  <a:lnTo>
                    <a:pt x="0" y="94"/>
                  </a:lnTo>
                  <a:lnTo>
                    <a:pt x="96" y="188"/>
                  </a:lnTo>
                  <a:lnTo>
                    <a:pt x="192" y="94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42560" y="151920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lls w/com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9360" y="169848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240" y="3005280"/>
              <a:ext cx="6573600" cy="277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2240" y="3005280"/>
              <a:ext cx="6573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7200" y="3094200"/>
              <a:ext cx="395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 engineering               Composites &amp; reinfor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6120" y="3094200"/>
              <a:ext cx="187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ital construction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280" y="3427560"/>
              <a:ext cx="4508640" cy="18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6280" y="3427560"/>
              <a:ext cx="450864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7720" y="3443400"/>
              <a:ext cx="157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gle material 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6520" y="34434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8000" y="344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6960" y="344340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9080" y="344340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68520" y="2506680"/>
              <a:ext cx="1681200" cy="289080"/>
            </a:xfrm>
            <a:custGeom>
              <a:avLst/>
              <a:gdLst/>
              <a:ahLst/>
              <a:rect l="l" t="t" r="r" b="b"/>
              <a:pathLst>
                <a:path w="2117" h="365">
                  <a:moveTo>
                    <a:pt x="126" y="139"/>
                  </a:moveTo>
                  <a:lnTo>
                    <a:pt x="126" y="143"/>
                  </a:lnTo>
                  <a:lnTo>
                    <a:pt x="124" y="130"/>
                  </a:lnTo>
                  <a:lnTo>
                    <a:pt x="126" y="134"/>
                  </a:lnTo>
                  <a:lnTo>
                    <a:pt x="120" y="124"/>
                  </a:lnTo>
                  <a:lnTo>
                    <a:pt x="122" y="128"/>
                  </a:lnTo>
                  <a:lnTo>
                    <a:pt x="122" y="124"/>
                  </a:lnTo>
                  <a:lnTo>
                    <a:pt x="115" y="115"/>
                  </a:lnTo>
                  <a:lnTo>
                    <a:pt x="122" y="122"/>
                  </a:lnTo>
                  <a:lnTo>
                    <a:pt x="115" y="117"/>
                  </a:lnTo>
                  <a:lnTo>
                    <a:pt x="124" y="124"/>
                  </a:lnTo>
                  <a:lnTo>
                    <a:pt x="130" y="128"/>
                  </a:lnTo>
                  <a:lnTo>
                    <a:pt x="141" y="132"/>
                  </a:lnTo>
                  <a:lnTo>
                    <a:pt x="155" y="137"/>
                  </a:lnTo>
                  <a:lnTo>
                    <a:pt x="172" y="143"/>
                  </a:lnTo>
                  <a:lnTo>
                    <a:pt x="191" y="149"/>
                  </a:lnTo>
                  <a:lnTo>
                    <a:pt x="214" y="156"/>
                  </a:lnTo>
                  <a:lnTo>
                    <a:pt x="239" y="162"/>
                  </a:lnTo>
                  <a:lnTo>
                    <a:pt x="266" y="167"/>
                  </a:lnTo>
                  <a:lnTo>
                    <a:pt x="296" y="175"/>
                  </a:lnTo>
                  <a:lnTo>
                    <a:pt x="327" y="181"/>
                  </a:lnTo>
                  <a:lnTo>
                    <a:pt x="360" y="186"/>
                  </a:lnTo>
                  <a:lnTo>
                    <a:pt x="394" y="192"/>
                  </a:lnTo>
                  <a:lnTo>
                    <a:pt x="430" y="198"/>
                  </a:lnTo>
                  <a:lnTo>
                    <a:pt x="467" y="201"/>
                  </a:lnTo>
                  <a:lnTo>
                    <a:pt x="507" y="207"/>
                  </a:lnTo>
                  <a:lnTo>
                    <a:pt x="545" y="211"/>
                  </a:lnTo>
                  <a:lnTo>
                    <a:pt x="587" y="216"/>
                  </a:lnTo>
                  <a:lnTo>
                    <a:pt x="629" y="220"/>
                  </a:lnTo>
                  <a:lnTo>
                    <a:pt x="673" y="224"/>
                  </a:lnTo>
                  <a:lnTo>
                    <a:pt x="718" y="228"/>
                  </a:lnTo>
                  <a:lnTo>
                    <a:pt x="762" y="230"/>
                  </a:lnTo>
                  <a:lnTo>
                    <a:pt x="807" y="233"/>
                  </a:lnTo>
                  <a:lnTo>
                    <a:pt x="901" y="237"/>
                  </a:lnTo>
                  <a:lnTo>
                    <a:pt x="995" y="239"/>
                  </a:lnTo>
                  <a:lnTo>
                    <a:pt x="1089" y="241"/>
                  </a:lnTo>
                  <a:lnTo>
                    <a:pt x="1137" y="239"/>
                  </a:lnTo>
                  <a:lnTo>
                    <a:pt x="1185" y="239"/>
                  </a:lnTo>
                  <a:lnTo>
                    <a:pt x="1231" y="237"/>
                  </a:lnTo>
                  <a:lnTo>
                    <a:pt x="1276" y="233"/>
                  </a:lnTo>
                  <a:lnTo>
                    <a:pt x="1322" y="230"/>
                  </a:lnTo>
                  <a:lnTo>
                    <a:pt x="1368" y="226"/>
                  </a:lnTo>
                  <a:lnTo>
                    <a:pt x="1414" y="220"/>
                  </a:lnTo>
                  <a:lnTo>
                    <a:pt x="1458" y="214"/>
                  </a:lnTo>
                  <a:lnTo>
                    <a:pt x="1502" y="209"/>
                  </a:lnTo>
                  <a:lnTo>
                    <a:pt x="1544" y="201"/>
                  </a:lnTo>
                  <a:lnTo>
                    <a:pt x="1587" y="194"/>
                  </a:lnTo>
                  <a:lnTo>
                    <a:pt x="1627" y="186"/>
                  </a:lnTo>
                  <a:lnTo>
                    <a:pt x="1667" y="177"/>
                  </a:lnTo>
                  <a:lnTo>
                    <a:pt x="1705" y="167"/>
                  </a:lnTo>
                  <a:lnTo>
                    <a:pt x="1742" y="158"/>
                  </a:lnTo>
                  <a:lnTo>
                    <a:pt x="1778" y="149"/>
                  </a:lnTo>
                  <a:lnTo>
                    <a:pt x="1761" y="156"/>
                  </a:lnTo>
                  <a:lnTo>
                    <a:pt x="1816" y="120"/>
                  </a:lnTo>
                  <a:lnTo>
                    <a:pt x="1885" y="226"/>
                  </a:lnTo>
                  <a:lnTo>
                    <a:pt x="1830" y="261"/>
                  </a:lnTo>
                  <a:lnTo>
                    <a:pt x="1822" y="265"/>
                  </a:lnTo>
                  <a:lnTo>
                    <a:pt x="1812" y="269"/>
                  </a:lnTo>
                  <a:lnTo>
                    <a:pt x="1774" y="278"/>
                  </a:lnTo>
                  <a:lnTo>
                    <a:pt x="1736" y="290"/>
                  </a:lnTo>
                  <a:lnTo>
                    <a:pt x="1694" y="299"/>
                  </a:lnTo>
                  <a:lnTo>
                    <a:pt x="1654" y="308"/>
                  </a:lnTo>
                  <a:lnTo>
                    <a:pt x="1610" y="316"/>
                  </a:lnTo>
                  <a:lnTo>
                    <a:pt x="1566" y="325"/>
                  </a:lnTo>
                  <a:lnTo>
                    <a:pt x="1522" y="333"/>
                  </a:lnTo>
                  <a:lnTo>
                    <a:pt x="1476" y="339"/>
                  </a:lnTo>
                  <a:lnTo>
                    <a:pt x="1428" y="344"/>
                  </a:lnTo>
                  <a:lnTo>
                    <a:pt x="1382" y="350"/>
                  </a:lnTo>
                  <a:lnTo>
                    <a:pt x="1334" y="355"/>
                  </a:lnTo>
                  <a:lnTo>
                    <a:pt x="1284" y="359"/>
                  </a:lnTo>
                  <a:lnTo>
                    <a:pt x="1236" y="361"/>
                  </a:lnTo>
                  <a:lnTo>
                    <a:pt x="1187" y="363"/>
                  </a:lnTo>
                  <a:lnTo>
                    <a:pt x="1139" y="365"/>
                  </a:lnTo>
                  <a:lnTo>
                    <a:pt x="1089" y="365"/>
                  </a:lnTo>
                  <a:lnTo>
                    <a:pt x="991" y="365"/>
                  </a:lnTo>
                  <a:lnTo>
                    <a:pt x="896" y="361"/>
                  </a:lnTo>
                  <a:lnTo>
                    <a:pt x="800" y="357"/>
                  </a:lnTo>
                  <a:lnTo>
                    <a:pt x="754" y="355"/>
                  </a:lnTo>
                  <a:lnTo>
                    <a:pt x="708" y="352"/>
                  </a:lnTo>
                  <a:lnTo>
                    <a:pt x="662" y="348"/>
                  </a:lnTo>
                  <a:lnTo>
                    <a:pt x="618" y="344"/>
                  </a:lnTo>
                  <a:lnTo>
                    <a:pt x="574" y="340"/>
                  </a:lnTo>
                  <a:lnTo>
                    <a:pt x="532" y="337"/>
                  </a:lnTo>
                  <a:lnTo>
                    <a:pt x="490" y="331"/>
                  </a:lnTo>
                  <a:lnTo>
                    <a:pt x="450" y="325"/>
                  </a:lnTo>
                  <a:lnTo>
                    <a:pt x="411" y="322"/>
                  </a:lnTo>
                  <a:lnTo>
                    <a:pt x="373" y="316"/>
                  </a:lnTo>
                  <a:lnTo>
                    <a:pt x="337" y="308"/>
                  </a:lnTo>
                  <a:lnTo>
                    <a:pt x="302" y="303"/>
                  </a:lnTo>
                  <a:lnTo>
                    <a:pt x="270" y="297"/>
                  </a:lnTo>
                  <a:lnTo>
                    <a:pt x="237" y="290"/>
                  </a:lnTo>
                  <a:lnTo>
                    <a:pt x="208" y="284"/>
                  </a:lnTo>
                  <a:lnTo>
                    <a:pt x="180" y="277"/>
                  </a:lnTo>
                  <a:lnTo>
                    <a:pt x="155" y="269"/>
                  </a:lnTo>
                  <a:lnTo>
                    <a:pt x="130" y="261"/>
                  </a:lnTo>
                  <a:lnTo>
                    <a:pt x="107" y="254"/>
                  </a:lnTo>
                  <a:lnTo>
                    <a:pt x="86" y="245"/>
                  </a:lnTo>
                  <a:lnTo>
                    <a:pt x="67" y="235"/>
                  </a:lnTo>
                  <a:lnTo>
                    <a:pt x="48" y="224"/>
                  </a:lnTo>
                  <a:lnTo>
                    <a:pt x="38" y="216"/>
                  </a:lnTo>
                  <a:lnTo>
                    <a:pt x="30" y="211"/>
                  </a:lnTo>
                  <a:lnTo>
                    <a:pt x="23" y="203"/>
                  </a:lnTo>
                  <a:lnTo>
                    <a:pt x="15" y="194"/>
                  </a:lnTo>
                  <a:lnTo>
                    <a:pt x="9" y="184"/>
                  </a:lnTo>
                  <a:lnTo>
                    <a:pt x="7" y="181"/>
                  </a:lnTo>
                  <a:lnTo>
                    <a:pt x="3" y="169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126" y="139"/>
                  </a:lnTo>
                  <a:close/>
                  <a:moveTo>
                    <a:pt x="1692" y="51"/>
                  </a:moveTo>
                  <a:lnTo>
                    <a:pt x="2117" y="0"/>
                  </a:lnTo>
                  <a:lnTo>
                    <a:pt x="1902" y="365"/>
                  </a:lnTo>
                  <a:lnTo>
                    <a:pt x="1692" y="51"/>
                  </a:lnTo>
                  <a:close/>
                </a:path>
              </a:pathLst>
            </a:custGeom>
            <a:solidFill>
              <a:srgbClr val="ff9900"/>
            </a:solidFill>
            <a:ln w="1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8040" y="2162160"/>
              <a:ext cx="560160" cy="277920"/>
            </a:xfrm>
            <a:custGeom>
              <a:avLst/>
              <a:gdLst/>
              <a:ahLst/>
              <a:rect l="l" t="t" r="r" b="b"/>
              <a:pathLst>
                <a:path w="706" h="349">
                  <a:moveTo>
                    <a:pt x="0" y="137"/>
                  </a:moveTo>
                  <a:lnTo>
                    <a:pt x="67" y="137"/>
                  </a:lnTo>
                  <a:lnTo>
                    <a:pt x="130" y="133"/>
                  </a:lnTo>
                  <a:lnTo>
                    <a:pt x="193" y="129"/>
                  </a:lnTo>
                  <a:lnTo>
                    <a:pt x="254" y="124"/>
                  </a:lnTo>
                  <a:lnTo>
                    <a:pt x="314" y="116"/>
                  </a:lnTo>
                  <a:lnTo>
                    <a:pt x="342" y="112"/>
                  </a:lnTo>
                  <a:lnTo>
                    <a:pt x="327" y="116"/>
                  </a:lnTo>
                  <a:lnTo>
                    <a:pt x="388" y="92"/>
                  </a:lnTo>
                  <a:lnTo>
                    <a:pt x="434" y="208"/>
                  </a:lnTo>
                  <a:lnTo>
                    <a:pt x="375" y="233"/>
                  </a:lnTo>
                  <a:lnTo>
                    <a:pt x="367" y="235"/>
                  </a:lnTo>
                  <a:lnTo>
                    <a:pt x="359" y="237"/>
                  </a:lnTo>
                  <a:lnTo>
                    <a:pt x="329" y="240"/>
                  </a:lnTo>
                  <a:lnTo>
                    <a:pt x="266" y="248"/>
                  </a:lnTo>
                  <a:lnTo>
                    <a:pt x="203" y="255"/>
                  </a:lnTo>
                  <a:lnTo>
                    <a:pt x="136" y="259"/>
                  </a:lnTo>
                  <a:lnTo>
                    <a:pt x="69" y="263"/>
                  </a:lnTo>
                  <a:lnTo>
                    <a:pt x="2" y="263"/>
                  </a:lnTo>
                  <a:lnTo>
                    <a:pt x="0" y="137"/>
                  </a:lnTo>
                  <a:close/>
                  <a:moveTo>
                    <a:pt x="281" y="0"/>
                  </a:moveTo>
                  <a:lnTo>
                    <a:pt x="706" y="34"/>
                  </a:lnTo>
                  <a:lnTo>
                    <a:pt x="423" y="349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ff9900"/>
            </a:solidFill>
            <a:ln w="1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143840" y="1768320"/>
            <a:ext cx="685800" cy="277920"/>
          </a:xfrm>
          <a:custGeom>
            <a:avLst/>
            <a:gdLst/>
            <a:ahLst/>
            <a:rect l="l" t="t" r="r" b="b"/>
            <a:pathLst>
              <a:path w="863" h="350">
                <a:moveTo>
                  <a:pt x="0" y="185"/>
                </a:moveTo>
                <a:lnTo>
                  <a:pt x="42" y="185"/>
                </a:lnTo>
                <a:lnTo>
                  <a:pt x="80" y="183"/>
                </a:lnTo>
                <a:lnTo>
                  <a:pt x="159" y="179"/>
                </a:lnTo>
                <a:lnTo>
                  <a:pt x="235" y="173"/>
                </a:lnTo>
                <a:lnTo>
                  <a:pt x="310" y="164"/>
                </a:lnTo>
                <a:lnTo>
                  <a:pt x="346" y="158"/>
                </a:lnTo>
                <a:lnTo>
                  <a:pt x="381" y="153"/>
                </a:lnTo>
                <a:lnTo>
                  <a:pt x="417" y="147"/>
                </a:lnTo>
                <a:lnTo>
                  <a:pt x="452" y="139"/>
                </a:lnTo>
                <a:lnTo>
                  <a:pt x="484" y="134"/>
                </a:lnTo>
                <a:lnTo>
                  <a:pt x="471" y="138"/>
                </a:lnTo>
                <a:lnTo>
                  <a:pt x="559" y="98"/>
                </a:lnTo>
                <a:lnTo>
                  <a:pt x="612" y="213"/>
                </a:lnTo>
                <a:lnTo>
                  <a:pt x="522" y="252"/>
                </a:lnTo>
                <a:lnTo>
                  <a:pt x="517" y="254"/>
                </a:lnTo>
                <a:lnTo>
                  <a:pt x="511" y="256"/>
                </a:lnTo>
                <a:lnTo>
                  <a:pt x="475" y="264"/>
                </a:lnTo>
                <a:lnTo>
                  <a:pt x="440" y="269"/>
                </a:lnTo>
                <a:lnTo>
                  <a:pt x="402" y="277"/>
                </a:lnTo>
                <a:lnTo>
                  <a:pt x="364" y="282"/>
                </a:lnTo>
                <a:lnTo>
                  <a:pt x="325" y="288"/>
                </a:lnTo>
                <a:lnTo>
                  <a:pt x="247" y="297"/>
                </a:lnTo>
                <a:lnTo>
                  <a:pt x="164" y="305"/>
                </a:lnTo>
                <a:lnTo>
                  <a:pt x="84" y="309"/>
                </a:lnTo>
                <a:lnTo>
                  <a:pt x="42" y="309"/>
                </a:lnTo>
                <a:lnTo>
                  <a:pt x="2" y="311"/>
                </a:lnTo>
                <a:lnTo>
                  <a:pt x="0" y="185"/>
                </a:lnTo>
                <a:close/>
                <a:moveTo>
                  <a:pt x="434" y="23"/>
                </a:moveTo>
                <a:lnTo>
                  <a:pt x="863" y="0"/>
                </a:lnTo>
                <a:lnTo>
                  <a:pt x="626" y="350"/>
                </a:lnTo>
                <a:lnTo>
                  <a:pt x="434" y="23"/>
                </a:lnTo>
                <a:close/>
              </a:path>
            </a:pathLst>
          </a:custGeom>
          <a:solidFill>
            <a:srgbClr val="ff9900"/>
          </a:solidFill>
          <a:ln w="1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85040" y="4390920"/>
            <a:ext cx="836640" cy="110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8628120" y="485496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8278560" y="4860720"/>
            <a:ext cx="9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8042760" y="4860000"/>
            <a:ext cx="103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5040" y="5492880"/>
            <a:ext cx="836640" cy="111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8555760" y="5969520"/>
            <a:ext cx="73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8421840" y="596736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8246520" y="5965920"/>
            <a:ext cx="63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880" y="4405320"/>
            <a:ext cx="911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880" y="5506920"/>
            <a:ext cx="911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28600"/>
            <a:ext cx="160020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28600"/>
            <a:ext cx="15238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228600"/>
            <a:ext cx="16765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0" y="0"/>
            <a:ext cx="9143640" cy="6552720"/>
            <a:chOff x="0" y="0"/>
            <a:chExt cx="9143640" cy="6552720"/>
          </a:xfrm>
        </p:grpSpPr>
        <p:sp>
          <p:nvSpPr>
            <p:cNvPr id="341" name=""/>
            <p:cNvSpPr/>
            <p:nvPr/>
          </p:nvSpPr>
          <p:spPr>
            <a:xfrm>
              <a:off x="1497600" y="799200"/>
              <a:ext cx="6148080" cy="151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rand Challe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4604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1497600" cy="23972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4315320"/>
              <a:ext cx="9143640" cy="22374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undamental 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200" y="2716920"/>
              <a:ext cx="7646040" cy="127836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Thru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4572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udable Materi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a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3308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rated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89400" y="2876760"/>
              <a:ext cx="2311920" cy="639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ular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"/>
            <p:cNvCxnSpPr>
              <a:stCxn id="350" idx="0"/>
              <a:endCxn id="346" idx="2"/>
            </p:cNvCxnSpPr>
            <p:nvPr/>
          </p:nvCxnSpPr>
          <p:spPr>
            <a:xfrm flipH="1" flipV="1">
              <a:off x="2101680" y="3515040"/>
              <a:ext cx="15804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1" name=""/>
            <p:cNvCxnSpPr>
              <a:stCxn id="350" idx="0"/>
              <a:endCxn id="348" idx="2"/>
            </p:cNvCxnSpPr>
            <p:nvPr/>
          </p:nvCxnSpPr>
          <p:spPr>
            <a:xfrm flipV="1">
              <a:off x="3681720" y="3515040"/>
              <a:ext cx="8640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2" name=""/>
            <p:cNvCxnSpPr>
              <a:stCxn id="353" idx="0"/>
              <a:endCxn id="347" idx="2"/>
            </p:cNvCxnSpPr>
            <p:nvPr/>
          </p:nvCxnSpPr>
          <p:spPr>
            <a:xfrm flipH="1" flipV="1">
              <a:off x="6988680" y="3515040"/>
              <a:ext cx="135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54" name=""/>
            <p:cNvSpPr/>
            <p:nvPr/>
          </p:nvSpPr>
          <p:spPr>
            <a:xfrm>
              <a:off x="2601000" y="958680"/>
              <a:ext cx="3862440" cy="47916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House in a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528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chitectur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9200" y="0"/>
              <a:ext cx="7961400" cy="799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Technology Demonst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ga-Scale Layered Fabrica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768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ustrial Pa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Mol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768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estanding Objec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3360" y="63900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chitect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ale Mod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03360" y="319680"/>
              <a:ext cx="1182240" cy="319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terrest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1" name=""/>
            <p:cNvCxnSpPr>
              <a:stCxn id="358" idx="3"/>
              <a:endCxn id="354" idx="1"/>
            </p:cNvCxnSpPr>
            <p:nvPr/>
          </p:nvCxnSpPr>
          <p:spPr>
            <a:xfrm>
              <a:off x="1339920" y="798840"/>
              <a:ext cx="126144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2" name=""/>
            <p:cNvCxnSpPr>
              <a:stCxn id="357" idx="3"/>
              <a:endCxn id="354" idx="1"/>
            </p:cNvCxnSpPr>
            <p:nvPr/>
          </p:nvCxnSpPr>
          <p:spPr>
            <a:xfrm>
              <a:off x="1339920" y="478800"/>
              <a:ext cx="126144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3" name=""/>
            <p:cNvCxnSpPr>
              <a:stCxn id="359" idx="1"/>
              <a:endCxn id="354" idx="3"/>
            </p:cNvCxnSpPr>
            <p:nvPr/>
          </p:nvCxnSpPr>
          <p:spPr>
            <a:xfrm flipH="1">
              <a:off x="6463080" y="798840"/>
              <a:ext cx="1340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4" name=""/>
            <p:cNvCxnSpPr>
              <a:stCxn id="360" idx="1"/>
              <a:endCxn id="354" idx="3"/>
            </p:cNvCxnSpPr>
            <p:nvPr/>
          </p:nvCxnSpPr>
          <p:spPr>
            <a:xfrm flipH="1">
              <a:off x="6463080" y="478800"/>
              <a:ext cx="134028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5" name=""/>
            <p:cNvCxnSpPr>
              <a:stCxn id="366" idx="0"/>
              <a:endCxn id="346" idx="2"/>
            </p:cNvCxnSpPr>
            <p:nvPr/>
          </p:nvCxnSpPr>
          <p:spPr>
            <a:xfrm flipV="1">
              <a:off x="2052000" y="3515040"/>
              <a:ext cx="5004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7" name=""/>
            <p:cNvCxnSpPr>
              <a:stCxn id="368" idx="0"/>
              <a:endCxn id="347" idx="2"/>
            </p:cNvCxnSpPr>
            <p:nvPr/>
          </p:nvCxnSpPr>
          <p:spPr>
            <a:xfrm flipV="1">
              <a:off x="5428800" y="3515040"/>
              <a:ext cx="156060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9" name=""/>
            <p:cNvCxnSpPr>
              <a:stCxn id="368" idx="0"/>
              <a:endCxn id="348" idx="2"/>
            </p:cNvCxnSpPr>
            <p:nvPr/>
          </p:nvCxnSpPr>
          <p:spPr>
            <a:xfrm flipH="1" flipV="1">
              <a:off x="4545000" y="3515040"/>
              <a:ext cx="8841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0" name=""/>
            <p:cNvCxnSpPr>
              <a:stCxn id="346" idx="2"/>
              <a:endCxn id="368" idx="0"/>
            </p:cNvCxnSpPr>
            <p:nvPr/>
          </p:nvCxnSpPr>
          <p:spPr>
            <a:xfrm>
              <a:off x="2101680" y="3515400"/>
              <a:ext cx="332748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1" name=""/>
            <p:cNvSpPr/>
            <p:nvPr/>
          </p:nvSpPr>
          <p:spPr>
            <a:xfrm>
              <a:off x="7803360" y="958680"/>
              <a:ext cx="1182240" cy="3196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1" idx="1"/>
              <a:endCxn id="354" idx="3"/>
            </p:cNvCxnSpPr>
            <p:nvPr/>
          </p:nvCxnSpPr>
          <p:spPr>
            <a:xfrm flipH="1">
              <a:off x="6463080" y="1118520"/>
              <a:ext cx="1340280" cy="8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3" name=""/>
            <p:cNvSpPr/>
            <p:nvPr/>
          </p:nvSpPr>
          <p:spPr>
            <a:xfrm flipH="1" flipV="1" rot="16200000">
              <a:off x="6155280" y="3244320"/>
              <a:ext cx="4794480" cy="1182240"/>
            </a:xfrm>
            <a:custGeom>
              <a:avLst/>
              <a:gdLst>
                <a:gd name="textAreaLeft" fmla="*/ 850680 w 4794480"/>
                <a:gd name="textAreaRight" fmla="*/ 342000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528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vironment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9600" y="17578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y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69600" y="199764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loyment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528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ic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-1805760" y="3004560"/>
              <a:ext cx="4794480" cy="1182240"/>
            </a:xfrm>
            <a:custGeom>
              <a:avLst/>
              <a:gdLst>
                <a:gd name="textAreaLeft" fmla="*/ 850320 w 4794480"/>
                <a:gd name="textAreaRight" fmla="*/ 3419640 w 4794480"/>
                <a:gd name="textAreaTop" fmla="*/ 158400 h 1182240"/>
                <a:gd name="textAreaBottom" fmla="*/ 102384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2" hR="21600" stAng="10800000" swAng="5400000"/>
                  <a:lnTo>
                    <a:pt x="11576" y="0"/>
                  </a:lnTo>
                  <a:arcTo wR="7662" hR="21600" stAng="-5400000" swAng="2837457"/>
                  <a:lnTo>
                    <a:pt x="21220" y="14879"/>
                  </a:lnTo>
                  <a:lnTo>
                    <a:pt x="17280" y="21600"/>
                  </a:lnTo>
                  <a:lnTo>
                    <a:pt x="12580" y="14879"/>
                  </a:lnTo>
                  <a:lnTo>
                    <a:pt x="14943" y="14879"/>
                  </a:lnTo>
                  <a:arcTo wR="7662" hR="21600" stAng="-2562543" swAng="-2516242"/>
                  <a:lnTo>
                    <a:pt x="9619" y="717"/>
                  </a:lnTo>
                  <a:arcTo wR="7662" hR="21600" stAng="-5721215" swAng="-5078785"/>
                  <a:close/>
                </a:path>
                <a:path fill="darkenLess" w="21600" h="21600">
                  <a:moveTo>
                    <a:pt x="0" y="21600"/>
                  </a:moveTo>
                  <a:arcTo wR="7662" hR="21600" stAng="10800000" swAng="5400000"/>
                  <a:lnTo>
                    <a:pt x="7662" y="0"/>
                  </a:lnTo>
                  <a:arcTo wR="7662" hR="21600" stAng="-5400000" swAng="321215"/>
                  <a:lnTo>
                    <a:pt x="9619" y="717"/>
                  </a:lnTo>
                  <a:arcTo wR="7662" hR="21600" stAng="-5721215" swAng="-507878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53" idx="0"/>
              <a:endCxn id="346" idx="2"/>
            </p:cNvCxnSpPr>
            <p:nvPr/>
          </p:nvCxnSpPr>
          <p:spPr>
            <a:xfrm flipH="1" flipV="1">
              <a:off x="2101320" y="3515040"/>
              <a:ext cx="5022360" cy="9594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286320" y="479448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hematical Mod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Fabrication 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86320" y="5433840"/>
              <a:ext cx="15728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D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Visua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6320" y="5114520"/>
              <a:ext cx="15728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sible Geome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so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85240" y="447480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reeform/Geome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412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site Materi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84120" y="5114520"/>
              <a:ext cx="149724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uid Dynam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8412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vel Structure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80800" y="447480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aterials/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840" y="479448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flow &amp; Logis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50840" y="575352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stem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sting and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5520" y="5114520"/>
              <a:ext cx="149760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-Rob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50840" y="5433840"/>
              <a:ext cx="149724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aborative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6600" y="447480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ystems/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6360" y="479448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c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16360" y="5114520"/>
              <a:ext cx="1576080" cy="319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edding Capab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ring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16360" y="5433840"/>
              <a:ext cx="1576080" cy="319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-Time Insp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22560" y="4474800"/>
              <a:ext cx="129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Sensing/Ac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7600" y="2317320"/>
              <a:ext cx="6148080" cy="79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54" idx="2"/>
              <a:endCxn id="347" idx="0"/>
            </p:cNvCxnSpPr>
            <p:nvPr/>
          </p:nvCxnSpPr>
          <p:spPr>
            <a:xfrm>
              <a:off x="4532400" y="1437840"/>
              <a:ext cx="245736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5" name=""/>
            <p:cNvCxnSpPr>
              <a:stCxn id="354" idx="2"/>
              <a:endCxn id="346" idx="0"/>
            </p:cNvCxnSpPr>
            <p:nvPr/>
          </p:nvCxnSpPr>
          <p:spPr>
            <a:xfrm flipH="1">
              <a:off x="2101680" y="1437840"/>
              <a:ext cx="243072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6" name=""/>
            <p:cNvCxnSpPr>
              <a:stCxn id="354" idx="2"/>
              <a:endCxn id="348" idx="0"/>
            </p:cNvCxnSpPr>
            <p:nvPr/>
          </p:nvCxnSpPr>
          <p:spPr>
            <a:xfrm>
              <a:off x="4532400" y="1437840"/>
              <a:ext cx="13680" cy="1438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6069600" y="1518480"/>
              <a:ext cx="1418760" cy="239400"/>
            </a:xfrm>
            <a:prstGeom prst="roundRect">
              <a:avLst>
                <a:gd name="adj" fmla="val 16667"/>
              </a:avLst>
            </a:prstGeom>
            <a:solidFill>
              <a:srgbClr val="ff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Imp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8600"/>
            <a:ext cx="9372600" cy="640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rrelationships among the three research thrus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" y="1148760"/>
            <a:ext cx="8587800" cy="5154120"/>
            <a:chOff x="457200" y="1148760"/>
            <a:chExt cx="8587800" cy="5154120"/>
          </a:xfrm>
        </p:grpSpPr>
        <p:sp>
          <p:nvSpPr>
            <p:cNvPr id="401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8640" y="3899160"/>
              <a:ext cx="1416600" cy="90252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95840" y="2194560"/>
              <a:ext cx="749160" cy="85320"/>
            </a:xfrm>
            <a:custGeom>
              <a:avLst/>
              <a:gdLst/>
              <a:ahLst/>
              <a:rect l="l" t="t" r="r" b="b"/>
              <a:pathLst>
                <a:path w="821" h="45">
                  <a:moveTo>
                    <a:pt x="0" y="0"/>
                  </a:moveTo>
                  <a:lnTo>
                    <a:pt x="79" y="45"/>
                  </a:lnTo>
                  <a:lnTo>
                    <a:pt x="741" y="45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e6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95840" y="2194560"/>
              <a:ext cx="71280" cy="700560"/>
            </a:xfrm>
            <a:custGeom>
              <a:avLst/>
              <a:gdLst/>
              <a:ahLst/>
              <a:rect l="l" t="t" r="r" b="b"/>
              <a:pathLst>
                <a:path w="79" h="368">
                  <a:moveTo>
                    <a:pt x="0" y="0"/>
                  </a:moveTo>
                  <a:lnTo>
                    <a:pt x="0" y="368"/>
                  </a:lnTo>
                  <a:lnTo>
                    <a:pt x="79" y="322"/>
                  </a:lnTo>
                  <a:lnTo>
                    <a:pt x="79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95840" y="2807640"/>
              <a:ext cx="749160" cy="87480"/>
            </a:xfrm>
            <a:custGeom>
              <a:avLst/>
              <a:gdLst/>
              <a:ahLst/>
              <a:rect l="l" t="t" r="r" b="b"/>
              <a:pathLst>
                <a:path w="821" h="46">
                  <a:moveTo>
                    <a:pt x="0" y="46"/>
                  </a:moveTo>
                  <a:lnTo>
                    <a:pt x="821" y="46"/>
                  </a:lnTo>
                  <a:lnTo>
                    <a:pt x="741" y="0"/>
                  </a:lnTo>
                  <a:lnTo>
                    <a:pt x="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972280" y="2194560"/>
              <a:ext cx="72720" cy="700560"/>
            </a:xfrm>
            <a:custGeom>
              <a:avLst/>
              <a:gdLst/>
              <a:ahLst/>
              <a:rect l="l" t="t" r="r" b="b"/>
              <a:pathLst>
                <a:path w="80" h="368">
                  <a:moveTo>
                    <a:pt x="80" y="368"/>
                  </a:moveTo>
                  <a:lnTo>
                    <a:pt x="80" y="0"/>
                  </a:lnTo>
                  <a:lnTo>
                    <a:pt x="0" y="45"/>
                  </a:lnTo>
                  <a:lnTo>
                    <a:pt x="0" y="322"/>
                  </a:lnTo>
                  <a:lnTo>
                    <a:pt x="80" y="368"/>
                  </a:lnTo>
                  <a:close/>
                </a:path>
              </a:pathLst>
            </a:custGeom>
            <a:solidFill>
              <a:srgbClr val="708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7120" y="2280240"/>
              <a:ext cx="604800" cy="527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5840" y="2194560"/>
              <a:ext cx="7128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295840" y="2807280"/>
              <a:ext cx="7128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8972280" y="2807280"/>
              <a:ext cx="7272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972280" y="2194560"/>
              <a:ext cx="7272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9120" y="1249560"/>
              <a:ext cx="1582200" cy="80208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06520" y="207612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gra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07960" y="243828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07240" y="280044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07160" y="214884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45080" y="2514240"/>
              <a:ext cx="168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2920" y="288000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74400" y="488412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rud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74400" y="524772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58360" y="5247720"/>
              <a:ext cx="24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75120" y="560808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56240" y="1365840"/>
              <a:ext cx="81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rchitectur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58760" y="1565640"/>
              <a:ext cx="43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59120" y="1592640"/>
              <a:ext cx="100008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8880" y="1592640"/>
              <a:ext cx="81720" cy="30096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0"/>
                  </a:moveTo>
                  <a:lnTo>
                    <a:pt x="57" y="114"/>
                  </a:lnTo>
                  <a:lnTo>
                    <a:pt x="33" y="114"/>
                  </a:lnTo>
                  <a:lnTo>
                    <a:pt x="33" y="0"/>
                  </a:lnTo>
                  <a:lnTo>
                    <a:pt x="57" y="0"/>
                  </a:lnTo>
                  <a:close/>
                  <a:moveTo>
                    <a:pt x="91" y="105"/>
                  </a:moveTo>
                  <a:lnTo>
                    <a:pt x="46" y="158"/>
                  </a:lnTo>
                  <a:lnTo>
                    <a:pt x="0" y="105"/>
                  </a:lnTo>
                  <a:lnTo>
                    <a:pt x="91" y="10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6480" y="20437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76480" y="2846160"/>
              <a:ext cx="1584360" cy="10044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76480" y="32479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43240" y="1865160"/>
              <a:ext cx="76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stics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10400" y="53733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dic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09320" y="555264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2520" y="306684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pec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77720" y="3398040"/>
              <a:ext cx="1440" cy="399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709800" y="3798000"/>
              <a:ext cx="216756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8400" y="3398040"/>
              <a:ext cx="83520" cy="399960"/>
            </a:xfrm>
            <a:custGeom>
              <a:avLst/>
              <a:gdLst/>
              <a:ahLst/>
              <a:rect l="l" t="t" r="r" b="b"/>
              <a:pathLst>
                <a:path w="91" h="210">
                  <a:moveTo>
                    <a:pt x="33" y="210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210"/>
                  </a:lnTo>
                  <a:lnTo>
                    <a:pt x="33" y="210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5961960" y="39283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sory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28280" y="3398040"/>
              <a:ext cx="1440" cy="1704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459600" y="4200120"/>
              <a:ext cx="2667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7480" y="3398040"/>
              <a:ext cx="83880" cy="802080"/>
            </a:xfrm>
            <a:custGeom>
              <a:avLst/>
              <a:gdLst/>
              <a:ahLst/>
              <a:rect l="l" t="t" r="r" b="b"/>
              <a:pathLst>
                <a:path w="91" h="421">
                  <a:moveTo>
                    <a:pt x="32" y="421"/>
                  </a:moveTo>
                  <a:lnTo>
                    <a:pt x="32" y="43"/>
                  </a:lnTo>
                  <a:lnTo>
                    <a:pt x="56" y="43"/>
                  </a:lnTo>
                  <a:lnTo>
                    <a:pt x="56" y="421"/>
                  </a:lnTo>
                  <a:lnTo>
                    <a:pt x="32" y="421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440" y="407052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y Dispat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720" y="433944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ed Video 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43280" y="5051520"/>
              <a:ext cx="584640" cy="10080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8" y="33"/>
                  </a:moveTo>
                  <a:lnTo>
                    <a:pt x="75" y="33"/>
                  </a:lnTo>
                  <a:lnTo>
                    <a:pt x="75" y="19"/>
                  </a:lnTo>
                  <a:lnTo>
                    <a:pt x="638" y="19"/>
                  </a:lnTo>
                  <a:lnTo>
                    <a:pt x="638" y="33"/>
                  </a:lnTo>
                  <a:close/>
                  <a:moveTo>
                    <a:pt x="91" y="53"/>
                  </a:moveTo>
                  <a:lnTo>
                    <a:pt x="0" y="27"/>
                  </a:lnTo>
                  <a:lnTo>
                    <a:pt x="91" y="0"/>
                  </a:lnTo>
                  <a:lnTo>
                    <a:pt x="91" y="53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460240" y="5103000"/>
              <a:ext cx="124992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7760" y="3398040"/>
              <a:ext cx="83880" cy="1704960"/>
            </a:xfrm>
            <a:custGeom>
              <a:avLst/>
              <a:gdLst/>
              <a:ahLst/>
              <a:rect l="l" t="t" r="r" b="b"/>
              <a:pathLst>
                <a:path w="91" h="895">
                  <a:moveTo>
                    <a:pt x="33" y="895"/>
                  </a:moveTo>
                  <a:lnTo>
                    <a:pt x="33" y="43"/>
                  </a:lnTo>
                  <a:lnTo>
                    <a:pt x="56" y="43"/>
                  </a:lnTo>
                  <a:lnTo>
                    <a:pt x="56" y="895"/>
                  </a:lnTo>
                  <a:lnTo>
                    <a:pt x="33" y="895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58800" y="51984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 design &amp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59520" y="537948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60240" y="555660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43280" y="5804280"/>
              <a:ext cx="150012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03440" y="3398040"/>
              <a:ext cx="82440" cy="2405880"/>
            </a:xfrm>
            <a:custGeom>
              <a:avLst/>
              <a:gdLst/>
              <a:ahLst/>
              <a:rect l="l" t="t" r="r" b="b"/>
              <a:pathLst>
                <a:path w="92" h="1263">
                  <a:moveTo>
                    <a:pt x="33" y="1263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1263"/>
                  </a:lnTo>
                  <a:lnTo>
                    <a:pt x="33" y="1263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2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9680" y="5754600"/>
              <a:ext cx="1500120" cy="100800"/>
            </a:xfrm>
            <a:custGeom>
              <a:avLst/>
              <a:gdLst/>
              <a:ahLst/>
              <a:rect l="l" t="t" r="r" b="b"/>
              <a:pathLst>
                <a:path w="1642" h="53">
                  <a:moveTo>
                    <a:pt x="0" y="19"/>
                  </a:moveTo>
                  <a:lnTo>
                    <a:pt x="1565" y="19"/>
                  </a:lnTo>
                  <a:lnTo>
                    <a:pt x="1565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551" y="0"/>
                  </a:moveTo>
                  <a:lnTo>
                    <a:pt x="1642" y="26"/>
                  </a:lnTo>
                  <a:lnTo>
                    <a:pt x="1551" y="53"/>
                  </a:lnTo>
                  <a:lnTo>
                    <a:pt x="1551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58160" y="467280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58520" y="48517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tri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209680" y="3397680"/>
              <a:ext cx="1440" cy="24058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7480" y="356976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su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93960" y="2444040"/>
              <a:ext cx="1001520" cy="100800"/>
            </a:xfrm>
            <a:custGeom>
              <a:avLst/>
              <a:gdLst/>
              <a:ahLst/>
              <a:rect l="l" t="t" r="r" b="b"/>
              <a:pathLst>
                <a:path w="1094" h="53">
                  <a:moveTo>
                    <a:pt x="0" y="19"/>
                  </a:moveTo>
                  <a:lnTo>
                    <a:pt x="1018" y="19"/>
                  </a:lnTo>
                  <a:lnTo>
                    <a:pt x="1018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003" y="0"/>
                  </a:moveTo>
                  <a:lnTo>
                    <a:pt x="1094" y="27"/>
                  </a:lnTo>
                  <a:lnTo>
                    <a:pt x="1003" y="53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93960" y="2646000"/>
              <a:ext cx="1001520" cy="98640"/>
            </a:xfrm>
            <a:custGeom>
              <a:avLst/>
              <a:gdLst/>
              <a:ahLst/>
              <a:rect l="l" t="t" r="r" b="b"/>
              <a:pathLst>
                <a:path w="1094" h="52">
                  <a:moveTo>
                    <a:pt x="1094" y="32"/>
                  </a:moveTo>
                  <a:lnTo>
                    <a:pt x="74" y="32"/>
                  </a:lnTo>
                  <a:lnTo>
                    <a:pt x="74" y="19"/>
                  </a:lnTo>
                  <a:lnTo>
                    <a:pt x="1094" y="19"/>
                  </a:lnTo>
                  <a:lnTo>
                    <a:pt x="1094" y="32"/>
                  </a:lnTo>
                  <a:close/>
                  <a:moveTo>
                    <a:pt x="91" y="52"/>
                  </a:moveTo>
                  <a:lnTo>
                    <a:pt x="0" y="26"/>
                  </a:lnTo>
                  <a:lnTo>
                    <a:pt x="91" y="0"/>
                  </a:lnTo>
                  <a:lnTo>
                    <a:pt x="91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94840" y="2365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94480" y="254484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78280" y="196416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bo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79000" y="22327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78280" y="286668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77560" y="313560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292040" y="3097440"/>
              <a:ext cx="750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49920" y="3097440"/>
              <a:ext cx="83880" cy="700560"/>
            </a:xfrm>
            <a:custGeom>
              <a:avLst/>
              <a:gdLst/>
              <a:ahLst/>
              <a:rect l="l" t="t" r="r" b="b"/>
              <a:pathLst>
                <a:path w="91" h="368">
                  <a:moveTo>
                    <a:pt x="56" y="0"/>
                  </a:moveTo>
                  <a:lnTo>
                    <a:pt x="56" y="324"/>
                  </a:lnTo>
                  <a:lnTo>
                    <a:pt x="32" y="324"/>
                  </a:lnTo>
                  <a:lnTo>
                    <a:pt x="32" y="0"/>
                  </a:lnTo>
                  <a:lnTo>
                    <a:pt x="56" y="0"/>
                  </a:lnTo>
                  <a:close/>
                  <a:moveTo>
                    <a:pt x="91" y="316"/>
                  </a:moveTo>
                  <a:lnTo>
                    <a:pt x="45" y="368"/>
                  </a:lnTo>
                  <a:lnTo>
                    <a:pt x="0" y="316"/>
                  </a:lnTo>
                  <a:lnTo>
                    <a:pt x="91" y="316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43240" y="266688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mbly pl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76480" y="2444040"/>
              <a:ext cx="1584360" cy="10080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7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42520" y="226512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zzle path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rudable materials &amp; fabric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underlying basic research necessary to develop the materials and structures for automated mega-scale fabr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materials into ultra-efficient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materials with delivery systems and robots from other thru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8:56:12Z</dcterms:created>
  <dc:creator> Berok</dc:creator>
  <dc:description/>
  <dc:language>en-US</dc:language>
  <cp:lastModifiedBy> </cp:lastModifiedBy>
  <dcterms:modified xsi:type="dcterms:W3CDTF">2005-07-01T05:56:07Z</dcterms:modified>
  <cp:revision>6</cp:revision>
  <dc:subject/>
  <dc:title>Slide 1</dc:title>
</cp:coreProperties>
</file>